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82E-BF69-4906-B1F1-78B9F90C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48F-B0C1-42CD-A9EF-5E280112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EC50-B39C-40DC-959B-9C395394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478-6105-482A-BE76-D4562471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702-7A07-479B-89B2-DE300A6D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AB5-9149-481F-B08E-E20DC757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B1B-59CC-4A4A-97FD-F86D9864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71D-82C2-41AC-A92C-14D4BBD1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6F1-5F85-429E-8720-B5D47AF7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03B-B799-49AF-B7DD-556381BC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593-DA2C-4FFE-916D-328DD4BE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14A-7884-4BE0-AE1F-ED72FB6C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D9CDE-EA8E-4EBD-B6FF-B50D098997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MS P 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9640" y="45252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9280" y="2700360"/>
            <a:ext cx="594036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レゼンテーション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9280" y="6983280"/>
            <a:ext cx="54007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著作権は独立行政法人情報処理推進機構（</a:t>
            </a:r>
            <a:r>
              <a:rPr b="0" lang="en-US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PA</a:t>
            </a:r>
            <a:r>
              <a:rPr b="0" lang="zh-CN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）及び経済産業省に帰属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A36-0F3F-4DD0-9E21-595785CAFB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F7B-34E1-4FC0-ADCA-0B7077BB8A9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F31-4C2F-4BC2-B456-BF336BAD7A19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アユミさんのところに、メールが届きました。誰からなのかな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C82-9ADE-439F-B509-09EE6DDA0B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よく知らない人から友だちのメールアドレスを教えて欲しいというメールで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DEA-31E8-48C2-A041-E6829A3DB9F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ールアドレスを教えてしまうのでしょうか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407-6CEC-4348-A363-6B9B22D63A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6119640"/>
            <a:ext cx="72007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らら！！。知らない人に、自分の友達のメールアドレスを教えてしまいました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□ここで考えよう□□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この後、どんなことが起こるか考えてみ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9A1-4397-4F14-9E55-D4D4B6E34B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zh-CN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6119640"/>
            <a:ext cx="7200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友だちは変なメールや電話がかかってきて困ったことになっているようです。アユミさんも責任を感じて小さくなってしまいまし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1FF-E6EA-4B1D-9070-71B3E9EFA4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6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F57-AE13-49F3-857A-6ABFCA11E9D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8F1-5A04-4A7C-A141-5273B8B78D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6840" y="1690560"/>
            <a:ext cx="5229360" cy="4191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5040360"/>
            <a:ext cx="1440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画面番号</a:t>
            </a:r>
            <a:r>
              <a:rPr b="0" lang="en-GB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272880"/>
            <a:ext cx="342108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2879640"/>
                <a:tab algn="r" pos="575928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「ネット社会の歩き方」レッスンキット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プレゼンテーション資料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0720" y="539640"/>
            <a:ext cx="6840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3.</a:t>
            </a:r>
            <a:r>
              <a:rPr b="1" lang="en-GB" sz="2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個人情報は大切なデー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0C1-332D-4764-95C3-17800D1C46D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3-22T05:26:35Z</dcterms:modified>
  <cp:revision>1</cp:revision>
  <dc:subject/>
  <dc:title/>
</cp:coreProperties>
</file>