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A45-BB15-4383-9287-DFF992E0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F2B-CAA6-4B1D-B4D2-149D1E1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DF4-13C1-476C-B9F1-C1E5261A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F4C-ED79-4D98-987F-A97587E0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029-DFEC-492D-9CB6-D6DF3363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8E4-9869-4018-A123-158344EA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426-3E7E-45DE-8C85-FA7A60F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308-2A01-4CDB-B91F-6F4917C5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E44-6C87-4DEB-BF38-E1E7B82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1F3-D901-4FE5-B7B1-459F55ED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8BE-D787-477E-B9C6-6C5EDD0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431-5EDE-4C13-BFEF-AA9410F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06BE2-9B5C-4999-AA69-920232DCFA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300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EE1-E72B-4599-A401-F4ADE6C587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739-8559-42C2-A672-A6B558711D43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本では売っていないような商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外のオンラインショ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4E0-A572-4995-850F-31D0C9D444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物みたいなモデルガンを見つ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1CB-1BE5-452B-A6AC-6A9D988D5F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支払い方法は問題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海外のオンラインショ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7ED0-D790-4712-8B16-5571437968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んとか、買えそうです。早速、申し込み、代金も送金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13017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貯金箱をあけてみ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E85-5AA4-4754-A0E3-E67ABF8AD5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税関から書類が届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7964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がて、日にちがた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2A8-206B-4C5E-BC7A-0A3AC0D80E9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輸入が禁止されている製品であり、没収するという通知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F38-28D2-41FB-877F-0214849EE1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金を返して欲しいと思い連絡してみると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C4B-01A1-4AE5-A4CA-FFECEF18E0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輸入は慎重に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金を返して欲しいと思い連絡してみると、商品は没収されており代金は戻りそうもあ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33B-A5D9-4E99-BF9C-E2C0ED6B5A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09:46Z</dcterms:modified>
  <cp:revision>1</cp:revision>
  <dc:subject/>
  <dc:title/>
</cp:coreProperties>
</file>