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C82-27BB-4788-B4A4-9A91702A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980-548A-4968-9FF6-1367A881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AFC-1700-4292-AE25-6FBD6FCB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97C-3B7C-4BA9-A441-9640DD48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A3F-DE83-4C7F-8488-AC0E2B45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9FA-D519-487C-976C-73CA7800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9BC-1ACC-4A69-AAE3-B763C862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AD8-AAF1-46B6-A3E0-590AF0D7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D14-36F5-45A2-8B29-2A942359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908-14A0-4BC5-9DBE-FEB3B8B9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245-065C-467F-9A2F-9F640A19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1A4-E685-48CE-BEB0-16A5E4A2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BC081-B492-4CB8-8E0A-614710E297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9280" y="2700360"/>
            <a:ext cx="540072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60720" y="1260360"/>
            <a:ext cx="467964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車内マナーを守り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704C-AFD5-4C29-914F-CE162E8256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A82-D6E1-4051-B91C-40C1F45CA02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60720" y="1260360"/>
            <a:ext cx="521964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メラつき携帯のマナーも守り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56F-CAA5-4C83-8AED-D36AD1DE34E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6AE-AEC1-46CE-A2B0-101DB61AF77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2F7-CFDB-4BE5-BD43-1F71F1581B3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86080" y="1260360"/>
            <a:ext cx="391464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メールの注意点は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CD0-4A42-45D6-8E16-2D045F85F3C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B4A8-F62D-400E-83C1-C700FA162AB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ADF-5E01-438A-AE8E-62A3A09F01C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36840" y="167652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35B-474C-4E76-99A3-A4F760F2DF4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36840" y="167652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548-0A2E-44A9-A3FC-805F3C7CE8C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60720" y="1260360"/>
            <a:ext cx="467964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んな場所では電源を切り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612-DD46-4962-ABD4-18C9390D2BD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36840" y="167652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2A94-25CE-41FC-AF0B-91EDFACC78D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36840" y="167652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827-448F-4CC1-8367-ACA3F30EFFA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36840" y="167652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630-25EF-494D-BA50-4778900746E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36840" y="167652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322-415D-4855-9D8E-89916A8F66A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36840" y="167652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67E-8E95-49C3-A02B-C29673DDB431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94C-E862-4688-A42D-8DBA9A97889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7A6E-D249-4A1F-A7CD-CE67AE8D0A4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F0D-187A-48DE-9E87-B08FD24153C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60720" y="1260360"/>
            <a:ext cx="540072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転車にのって利用するのは危険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593-4306-491C-9E1B-35F4372310F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60720" y="1260360"/>
            <a:ext cx="540072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ールチェックしながら歩くのは危険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D3A-13C5-42F6-A299-E66BD1813B5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60720" y="1260360"/>
            <a:ext cx="467964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ナーモードにし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F8A-CDE2-4B63-AE9A-83CBA85FC8E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20720" y="539640"/>
            <a:ext cx="5219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携帯電話のマナ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17920" y="1879560"/>
            <a:ext cx="31734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ナーモード設定も大事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17920" y="1879560"/>
            <a:ext cx="31734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マナーモード設定も大事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388-C6B9-4E78-AE3E-BDF8FB3F480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16:04Z</dcterms:modified>
  <cp:revision>1</cp:revision>
  <dc:subject/>
  <dc:title/>
</cp:coreProperties>
</file>