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A922-B73B-4BD4-8100-E9706132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5D6E-6F1F-458F-8667-6562FC58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66F1-E72A-4A1F-B924-68DEB745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9420-278F-489C-BC63-70B54EEBD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84D8-A594-4708-9B1D-142059D8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D283-A174-44B6-8991-5EBFE376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1816-6045-4A6E-B644-3A8340DE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0661-89D3-47CB-B5F0-8B7622DC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B4F1-D7BB-4FB9-99D2-E76CE83E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C324-E755-49D7-B603-77BEB2F5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13AE-CC71-4A77-89F2-34B95C68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50A5-EE23-47C0-A35D-12913C54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54136-14C2-453E-8D56-4239C36B1B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558000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9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ピーしてもいいの？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ピーしてもいいの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兄さんはタイチ君のしたことが良くないことで、法律でも禁止されていることを教えてあげ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7E5F-8505-48D0-B367-A2DD7192850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9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ピーしてもいいの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8BF7-3882-41EA-B46C-80BBFFFF9F3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9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ピーしてもいいの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908D-4691-4863-B4B6-07E8F1A9CDE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9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ピーしてもいいの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E2B7-3BC3-45EB-8229-CDC5D46983F5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ピーしてもいいの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タイチ君たちは新作ゲームソフトで遊んで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C338-8EA9-404F-A591-10E181F25A8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ピーしてもいいの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0000" y="5940360"/>
            <a:ext cx="846000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こで考えてみましょう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タイチ君は「このソフト貸してくれない」と言っていますが、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ハルオ君の家で買ったソフトを借りることはできるのでしょう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ハルオ君はだまっていますが、こんな時はなんて言えばいいのでしょうか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24EB-5AE0-48CD-A6C2-6674D43F5AD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ピーしてもいいの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ハルオ君は貸してあげることにし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7530-B217-49D2-AB27-672133C19A8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ピーしてもいいの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簡単にインストールできるソフトも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5291-F5E8-44F0-9AFE-ADB2337C6BB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ピーしてもいいの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タイチ君は大満足でソフトを楽しんでいます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でも、本当にそれでいいのでしょうか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21F1-39CE-4FD5-BF52-9352C9354F1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ピーしてもいいの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ゲームソフトをインストールしたことをお兄さんに話します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ECC7-941F-412B-9E7A-279DF0486C0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ピーしてもいいの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タイチ君は悪いことをしたとは思っていないので、借りてきてインストールしたことを話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CD26-7147-40D5-8BB0-DAE3A44297F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9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ピーしてもいいの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C8CE-F6CE-4E48-BEB9-303BE6ED28D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4:57:18Z</dcterms:modified>
  <cp:revision>1</cp:revision>
  <dc:subject/>
  <dc:title/>
</cp:coreProperties>
</file>