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F71-5C67-4597-8041-3F98746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A5B-32B4-40F2-BF65-ECC72547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730-1338-468A-B89A-9C9D0679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157-B872-4119-AAA9-BC8D693B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F5C-EDF4-431F-B71A-5D8A25A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6F7-0BA0-4261-8210-895E41A0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045-A501-463C-9A66-38E8EBF9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D80-6EFC-4AC2-A200-51607E5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678-B875-459C-B6FF-30663D07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1EC-E2D0-44DC-BFEE-4B6187F5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054-1C6C-4FDE-ABAD-9A0C1A9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7B1-12C0-4055-9F38-0FD5BF8E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69491-AF61-4E90-B1F1-2C0C67598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4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の説明を聞いていなかったタイチ君は答えら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0CB7-8D44-4076-8391-A41C80DB9D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先生から授業態度を注意され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548-67DD-4D22-8801-80F7B20006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50E-9489-4864-B53C-AC89796EE5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いにちネットゲームやパソコンをながい時間使っているタイチ君。お父さんは「ネット中毒」ではないかと心配し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F49-8828-46E7-8DD7-FD212CD2D0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005-A9E4-4365-BD50-E9E221A68B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894-1B9B-43CC-91A6-5EF29574EF1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65D-FD9C-4375-A050-44ACC64E2D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7CA-D8BD-45BA-AC85-47BD739AE66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555-EE21-40E5-980C-65478981B89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CA5-ECFE-44E5-B033-825AC55708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96C-4EFB-49BC-922F-37DA9EC55BD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タ君は顔色の悪いタイチ君が心配にな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CA2-FA61-4BA7-869F-D4FF7E319F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インターネットカフェの前を通りか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781-F41E-48DA-89FA-1AB48757750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0720" y="6119640"/>
            <a:ext cx="5940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塾で勉強よりゲームを選んでしま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C58-18F0-4DFB-B54C-DCEB4D83AF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0720" y="61196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家に帰ってもゲーム。ゲームをよりおもしろくするにはアイテムが必要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936-F901-4264-9A17-3394DC6D76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060-57E4-4C5F-B108-FCA7E2FC2E6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0720" y="6121440"/>
            <a:ext cx="64800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つもゲームに夢中になっているタイチ君を心配しているお母さ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A26-DCEE-4D88-B381-8FBEB03A2C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依存に注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681-5548-431B-AB85-8B1D73016E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12:27Z</dcterms:modified>
  <cp:revision>1</cp:revision>
  <dc:subject/>
  <dc:title/>
</cp:coreProperties>
</file>