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7720" y="812880"/>
            <a:ext cx="53420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640" y="50763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524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524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628A0-6178-43D6-AA2D-A6D553E07A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08080" y="812880"/>
            <a:ext cx="53434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755640" y="5076720"/>
            <a:ext cx="6045120" cy="48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CC2-DCF8-4688-8FCD-45B6D065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9DB-0B81-4DF4-B79E-C8D86354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CDA-561C-433B-A357-33EA618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C29-8424-4310-9EE2-8F88E5D8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343-0EDE-48F4-9731-0EAC14C0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9A4-CE07-4F84-99C0-DD4A63D7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C89-9886-4567-9660-CB54C4A9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475-2A30-49AA-8757-AB4E0549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410-F9A9-4246-9792-BE04174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02A-364D-46D7-AA69-D13DFAD2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BD1-9EEE-4F1E-8CBA-47F83B7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F8A-611B-43F1-9889-05C75C2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B5324-7721-4419-8179-4CF3CA1763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9280" y="2700360"/>
            <a:ext cx="648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　利用方法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6983280"/>
            <a:ext cx="5400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en-GB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AC5-4F42-4325-8139-66762B5AC7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E12-51E8-4F41-A4B1-877770CB1BC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信頼できる人かどうか判断することも大事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16B-FE3D-4BA8-B356-7D3CB2DEC57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990-FC76-4DA7-99B4-19415B1922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E8D-F5A5-4190-9EBE-50F6BA1EB37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619-DC44-48F6-B021-D2034F48DB5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099-677E-443D-A38B-4353641BAD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502-F6B8-44E0-B022-4D4822BFE2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6D5-9CBE-4F70-8682-662306FE3A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745-F741-4FE0-B7B2-38C17A56C1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9FB-3FDC-4A37-A5C9-938027F8AD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タイチ君は安く買えるかどうかオークションサイトをお兄さんに調べ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ABF-726B-45A0-9A53-D490492BB3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っそく見つかり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94A-0C9C-43F7-82E9-2C63D7AFD6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6119640"/>
            <a:ext cx="7200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もすぐに買えるかどうかは分かりません。お兄さんにオークションの仕組みを教え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6D34-6FA7-43F1-8A5D-36A228B65E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C13-50D2-4B9F-B608-6B41D0D692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支払い方法もいろいろ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090-DD2A-4570-B68A-53BE83B7BC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6119640"/>
            <a:ext cx="7200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商品の受け渡しが安全に行える仕組みも教えてもら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609-65FC-409C-83CD-5D0C0F989E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5040360"/>
            <a:ext cx="1440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0720" y="539640"/>
            <a:ext cx="684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1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ネットオークションの賢い利用方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5B7-EF6D-4783-B628-BEA3D9B092D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