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953-ECB3-44C7-B70F-8B6BF586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954-C182-4A9C-9C6E-304E664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75B-8409-4B49-81A4-EE88CE87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C71-2038-4C57-BC3D-CEA410CB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D13-2B5F-4DC7-B55B-2564C88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250-04CE-40F6-99EF-0B0DD31C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638-1CD5-4FD9-B778-6AFCEA62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BFD-856C-4B05-8407-9FD10DEF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4CE-72B1-48EF-870C-B6BB0DB2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80F1-BE30-44EC-BC5B-B536B559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20B-18C9-4046-936E-614C6DA9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61D-967C-48D5-906E-A84DC01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8B3C-771E-499B-8ED2-C9257DE6D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648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91E-426C-4AD3-B749-3ECC19FE16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9E4-5247-40BA-83DC-47725680F4B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D32-DC02-4792-84B8-9EF26CC6773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920-AB09-4B01-BB8A-E9646B1C19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096-5ACD-465D-9C06-67C69E6E323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D1B-9370-4C6D-B7D8-48B2AA2A4BEA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9E6-6B85-481D-8F45-A0C6D1B89E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31F8-399D-46A7-B344-2A187FFCD9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A43-C9E7-41F3-8B54-AC0FBF1804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ＳＳＬで暗号化されたショッピングサイトなので、情報が漏れないので安心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967-F88C-4F5C-A28B-A55ABBCC9D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ED9-B656-4DAA-BCA4-10C749A2AE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849-DB14-4707-B699-C6024C390F3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ンイチ君は知っていることをお父さんに説明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7D2-67F8-462E-8530-941A6AC3B3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7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ショッピングの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062-8A36-4896-87FF-F8FA4ACCAFF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2:55:53Z</dcterms:modified>
  <cp:revision>2</cp:revision>
  <dc:subject/>
  <dc:title/>
</cp:coreProperties>
</file>