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C5F-FBF6-41E4-A6FB-B108B327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725-96F6-4743-A139-7925E1A3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03C-91C6-4136-A8B3-4DCA6D67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A37-1E59-405A-AEB4-1ECE12E2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1BC-AB43-4AA0-8A5C-0273D961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5F4-11E0-4CC0-9033-EDF3FAA6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86A-9D74-499B-949D-592A28C0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ED7-B6E4-4C08-A714-B9C83358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EA25-E4D4-428A-A9B2-4253BBE6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604-5369-42F2-8B0A-791F8EF2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F4D0-845F-4FAC-B1B9-880EA8D5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F39-A237-48C4-B77E-0ABE989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E399B-FA90-4550-ADB9-2A769F5A20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3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19F-5F34-49E8-B6CA-9A4495B03D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8D4-5C69-491A-A542-E24C9826BF21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特価のフィルムをみつけたダイスケ君は，こうふん気味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格安のフィルムをみつけた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605-D2DA-4F3F-A98D-AC31759A85D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注文数量の入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A1B-E854-4F2A-819E-5B0CD8E67E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まりに安いので，フィルムの数を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に変更したつもりなのですが・・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9C0-F576-42A4-818A-A6270C93BF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うふんしていたダイスケ君は，コンピュータの画面をよく見ずに注文し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のフィルムを注文するつもり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1B2-0D44-4512-8B6C-EF5B6EA2FC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数日後、家に届いたフィルムを見たダイスケ君はびっく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どいたフィルムは？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CFA-5EE0-465A-BD51-4C5169E1C7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7964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母さんもびっく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6C1-8482-4CC4-A7D6-72A14F7FF7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のフィルムを注文したはずなのに，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2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のフィルムがとどい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479-BC51-4DD5-AC33-D6E7D099CFA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発注ミス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833-7AA5-4E24-A7AE-650DEF4B5A3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3:22Z</dcterms:modified>
  <cp:revision>1</cp:revision>
  <dc:subject/>
  <dc:title/>
</cp:coreProperties>
</file>