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30A70-8CC4-450F-B372-EF130AAA9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DEDB-7CAA-49C6-97EC-EBF0C42A8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F41BC-DC30-41E6-9A40-66845A28B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9D158-832F-4EB5-A65D-0B2655637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FA50-2AEC-403D-AB2F-417EA6472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20F1A-EF87-4A02-9C7D-41446F37A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08A94-73BD-4BDA-B998-E59DA347E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F84B8-E015-43BF-9228-2B674EA08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79CD9-0EEE-40DA-8D11-D8E612C96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0B372-F6F5-4897-93D5-9B34C943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253F-C0E2-4BA5-B8F2-28CE9BF29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0F309-FC85-4643-9752-C4D765A50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588F3E-9E06-4EC4-960B-782A0A11F475}"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612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7.</a:t>
            </a:r>
            <a:r>
              <a:rPr b="1" lang="zh-CN" sz="3600" spc="-1" strike="noStrike">
                <a:solidFill>
                  <a:srgbClr val="000000"/>
                </a:solidFill>
                <a:latin typeface="ＭＳ ゴシック"/>
                <a:ea typeface="ＭＳ ゴシック"/>
              </a:rPr>
              <a:t>他人の絵や文章のコピー　は要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どのようなブログがたくさんの人に見てもらえるか考えている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872954F-9500-4C26-9606-A813AE325BE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雑誌やマンガの中のお気に入りの写真や絵をブログにのせることを思いつき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7010923-BF1D-4E1D-A654-6E5BFE811E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5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写真や絵をスキャナーで読みこみ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90D4BB2-AD77-41F2-9B1A-61D5C98FD9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6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ブログにのせ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88E3E73-1AC7-41CF-92AC-BF83FD89B2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6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何日かしてコメットが書かれてい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AD34EA-5FA0-4300-A380-FBD3681ECB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7.</a:t>
            </a:r>
            <a:r>
              <a:rPr b="1" lang="zh-CN"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7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ブログを見た人から「許可なしでは法律違反」との内容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D7D3165-A3B9-475C-9A71-73D9646188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7.</a:t>
            </a:r>
            <a:r>
              <a:rPr b="1" lang="en-GB"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71FB3900-CBE7-4C5B-8EC9-3D1ECA6FF1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8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7.</a:t>
            </a:r>
            <a:r>
              <a:rPr b="1" lang="en-GB" sz="2600" spc="-1" strike="noStrike">
                <a:solidFill>
                  <a:srgbClr val="000000"/>
                </a:solidFill>
                <a:latin typeface="ＭＳ ゴシック"/>
                <a:ea typeface="ＭＳ ゴシック"/>
              </a:rPr>
              <a:t>他人の絵や文章のコピーは要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CDD9140E-F28C-4E9E-A864-F53087E7DC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54:55Z</dcterms:modified>
  <cp:revision>2</cp:revision>
  <dc:subject/>
  <dc:title/>
</cp:coreProperties>
</file>