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722-703B-4AC7-ABB3-D5EFEA2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AE7-9305-4EBB-9E22-D182AAF0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ABA-1D9D-48CC-8A1B-448AA2B8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760-DCAB-4619-9DEA-B4C51F3FD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DF2-7ABA-4DEE-92F1-E53EB56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82C-21AA-4F65-B041-69737D2D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B55-C0A0-4AD5-8C47-D3A3701C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D3A-C284-4011-8F21-C6F78EA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DF7-A687-4A93-91CA-D496553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E04-9C33-4D19-88A5-B889C43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95F-D91E-4FB3-A95D-BAB56C8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EE6-A94A-4E4E-949E-F01F8553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1A35-79DD-43F9-943A-98D3FB6766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078-A3E5-48F1-ADA9-90B3C9AD1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547-89C2-4990-B1ED-A3E4C20341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キャンセル手数料を請求さ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1C3-D630-4CA1-B880-9BA6C11981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ロウ君は納得でき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4A6-BEB2-4689-9B02-E06AF2AFEBE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父さんに聞いて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952-DB54-4997-883F-C55BB3A8133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方的な契約解除はできないとの説明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1DB-D9C7-423A-BA49-6C34FB6723B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手数料を払う場合があることも教えら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7F6-9F41-453E-A869-2E87550DDDE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155-53E5-452E-B382-95612BE2498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10F9-CF91-464B-ABA3-A6D0A6EC31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34A-9137-489A-9CBA-348152F158A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オークションサイトで中古ＣＤを探すタ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598-4C67-423C-9C54-A6094EA9B4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B3D-11C9-4A94-B8E2-459F48D8C60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C3E-2479-4AD9-B0ED-9500C8BCA975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好きなバンドのＣ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5C9-517F-4E3A-90DE-DED3C39FC0F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考えるタロウ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87F-20AE-4DFC-9A42-CAAD43DB7D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申し込む気持ち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344-701E-45A6-83D0-2D649CBC43E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ずは最低価格で申し込み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DF9-D0FC-4393-B217-AB6B07FA57D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ところが翌日、もっと安いＣＤ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D46-9A30-4DEE-9EB4-389104FE6E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タロウ君は昨日の申し込みはキャンセルするつもりです。問題はないの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161-3633-4D49-BFD9-57D83F24F4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2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契約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08400" y="1674720"/>
            <a:ext cx="52290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6BA-84F9-4B09-AEFE-04DE247FB5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9:34Z</dcterms:modified>
  <cp:revision>1</cp:revision>
  <dc:subject/>
  <dc:title/>
</cp:coreProperties>
</file>