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5BD7-A6C0-40B5-B351-F39360B34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9D69-47B9-4F15-81A9-26C2DC859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A59B-2E43-476A-9087-10838F117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623C-EAAD-431D-85E1-7CA5A61FD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B9BA-4790-4E9E-95AD-D7E956E47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3526-0BB9-4F61-8D37-1E7BD6AF1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FF85-5A7F-4C78-A02B-723AE850D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EF14-6820-4EE1-877C-59B4DDC5B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AE64-B2EA-4AA4-A2CB-85EFCF623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D77C-E318-4438-AE76-AC9BE59AC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FB41-B7D6-40B7-A39E-AF04954FF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EF3B-06BB-4338-A04F-B223D6908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AAD031-C832-4284-884B-CD5F4D5E5AC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9640" y="45252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19280" y="2700360"/>
            <a:ext cx="5580000" cy="191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1.</a:t>
            </a:r>
            <a:r>
              <a:rPr b="1" lang="zh-CN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住所や電話番号をおしえるのは慎重に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レゼンテーション資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9280" y="6983280"/>
            <a:ext cx="540072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著作権は独立行政法人情報処理推進機構（</a:t>
            </a: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IPA</a:t>
            </a: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及び経済産業省に帰属し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1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住所や電話番号をおしえるのは慎重に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09A5-20B1-4FFC-9C25-F228702BE49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1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住所や電話番号をおしえるのは慎重に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E6E4-79FC-44B0-B689-673ECDC2C3E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1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住所や電話番号をおしえるのは慎重に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A29D-C9B2-44B2-B35C-19B91EE3FF4F}" type="slidenum">
              <a:t>12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1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住所や電話番号をおしえるのは慎重に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ダイスケ君はプレゼントのホームページを見つけ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19280" y="1260360"/>
            <a:ext cx="414000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ホームページを見ている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1ECA-E90F-420F-A967-E2891808589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1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住所や電話番号をおしえるのは慎重に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アンケートに入力すると景品が貰えるページで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19280" y="1260360"/>
            <a:ext cx="450036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キャラクターカードプレゼント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6459-5844-4F49-BCE9-31458503144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1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住所や電話番号をおしえるのは慎重に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ダイスケ君は景品につられて、自分の住所や電話番号などを入力してしまい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19280" y="1260360"/>
            <a:ext cx="252108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入力するダイスケ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3591-055C-4FCC-B6F7-4C686A0C96D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1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住所や電話番号をおしえるのは慎重に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19280" y="6119640"/>
            <a:ext cx="7200720" cy="9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□□</a:t>
            </a: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ここで考えてみましょう□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●</a:t>
            </a: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アンケート画面で自分の名前や住所、電話番号など入力するのは問題ないでしょうか？　後で困ったことにはならないでしょうか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●</a:t>
            </a: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困るとしたら、どんなことが考えられますか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19280" y="1260360"/>
            <a:ext cx="252108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入力が終わ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60F1-8FE2-4AC0-A3D9-42E681DA38A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1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住所や電話番号をおしえるのは慎重に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アンケートに答えたが、いつまで待ってもキャラクターカードが届きません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19280" y="1260360"/>
            <a:ext cx="558000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キャラクターカードを楽しみに待つダイスケ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C3B2-8E87-4A6A-A729-DBF5916F730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1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住所や電話番号をおしえるのは慎重に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ゆうびん屋さんがたくさんのダイレクトメールを持って来ました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A388-10E5-480B-B42C-F753FA95065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6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1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住所や電話番号をおしえるのは慎重に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9280" y="6119640"/>
            <a:ext cx="7200720" cy="9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このように勧誘の電話や郵便が多くなることがあり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●</a:t>
            </a: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ダイスケ君の行動は、何が問題だったのでしょうか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●</a:t>
            </a: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このようなことにならないようにするには、どのようなことに気をつければよいでしょうか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1243-2E56-483F-B266-2D03862FC9D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1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住所や電話番号をおしえるのは慎重に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F251-16D5-4268-9C5E-B20E1536842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6-03-22T04:24:32Z</dcterms:modified>
  <cp:revision>1</cp:revision>
  <dc:subject/>
  <dc:title/>
</cp:coreProperties>
</file>