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C4D-5ED0-474F-9E12-E74A875C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BFE-A051-4174-A7B1-3AD72FED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D14-EE16-4F5A-99BE-ABE2A710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641-D5E1-494A-8DE1-8D778AC8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2FF-C673-441C-98AA-9E673FC9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190-6D45-4861-BF1E-D3B43A7C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2F6-0E7D-48C9-9687-5EF5A495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9B8-FA36-44A5-BB72-EE6B08A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6A85-0332-47C2-B66C-6F483A42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B89-A535-4C3B-BA16-EA144A6E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E91-CA21-495A-AD2F-0942CF8D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227-C686-42EC-8E20-A8F6FBA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23336-1BCB-4DC7-978B-01EF73C2D5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6119640"/>
            <a:ext cx="755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れらはジロウ君が送ったネズミ講のメールへの抗議の内容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0B1B-A91D-4C5F-8D58-5BF93E926C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0AE-DFB0-43A7-B0B5-8F81832D099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6119640"/>
            <a:ext cx="75596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受取ったメールの中には警察からのも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D21-1703-450C-A49C-F8B750B585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ジロウ君のメールが法律違反なので、警察に出頭して欲しいという内容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B32-531B-4049-A77F-01F3E6F3370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1AC-869C-4474-B6E9-6ACD318B5BC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CED-05EB-47F7-9E45-1D467920C6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8D5-A2B4-49B1-888A-9FE25D3A0E0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カシ君からジロウ君にメールが届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8A1-5BCF-4911-B834-C77C455FFBB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,000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払えばお金がたくさんもうかるというメール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B6DD-2419-49BA-8F0E-643194154D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669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はタカシ君を含む４人に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00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ずつ振り込めという内容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90D1-170A-4354-B897-0F91C95A67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00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に相当する物としてレポートが届く仕組み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4B8-1EC7-4666-9573-9FE0054053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、４人の中の最初の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名を削除して、最後に自分（ジロウ君）を追加してたくさんの人に送れという内容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16E-4C4E-4DAD-95CA-E057AF20F8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ジロウ君は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,000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の出費だけで自分がメールを送った人数分と受取った人は同じようにメールを送るのでたくさんの人からお金が振り込まれると思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654-3B59-436B-B69D-767A6CAB954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それぞれの人に</a:t>
            </a: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,000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円ずつ振り込んだところ、全員からレポートが届きました。それで今度は名簿の最後を自分にして、たくさんの人にメールを送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BDD0-B66D-4956-865A-A4EC4DD069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5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ズミ講は禁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をたくさん受取って驚くジロウ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DC5-DC86-41D0-A366-329C2C2BBD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45:48Z</dcterms:modified>
  <cp:revision>1</cp:revision>
  <dc:subject/>
  <dc:title/>
</cp:coreProperties>
</file>