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152-FC6D-4D49-85F0-80E31DF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220-1E25-43DA-9F79-9772A91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4DC-1445-4E87-B070-796A0A28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906-B071-49DA-A106-940F3274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FE0-FAA1-4E35-9240-5DB5BA96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0D6-E15F-4EA7-8097-C685763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BC2-F821-4B72-99BF-E1948E64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264-7B1B-4155-878E-9D40227C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667-CFF2-4E3C-AEA3-58ABA688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107-15D2-400C-A218-41EACF3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3B8-DDA5-48AC-8DC7-D673510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E35-5D24-4D31-AEEB-1B0DBB4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09A96-3DD3-4283-BC56-4447371A9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A25-9EEF-4F80-B1EF-DF36208B0A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740-FEF8-45B2-89A2-DF14337DE3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B1A-0EE3-4BE4-BDF6-1D5C47CB31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AAD-1198-4919-9EE8-8CC7BF23AD3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8B32-8AA5-45D2-AFE0-A1665744FF74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F17-671F-4A44-B58B-4E75E23FB8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欲しかったゲーム機を売っているサイトが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55A-FAC4-4293-8352-F1333CB15F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購入することにしました。支払い方法は商品代引き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F54-6F86-428C-A84C-A9B31E9926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52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注文した商品が届いたので、配達のおじさんに代金を支払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2E5-2C7A-4615-B3A3-06FA71F888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ーブルを接続し、さっそくゲームは始めようとしましたが、どうしたことかテレビにゲーム画面が出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579-920C-44A8-91F7-66ED6B994C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、売った人に連絡をしようと思い、ホームページで連絡先を確認しようとしたが、ホームページが無くなっ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ロバイダーに連絡し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55F-9239-4D9E-8BB9-2680870D13B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かし、プロバイダーは相手の連絡先を教えてく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EF1-64EB-41AC-BA83-15440E2D2C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雲隠れ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ACC-0D43-4545-B616-FF488900CE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32:46Z</dcterms:modified>
  <cp:revision>1</cp:revision>
  <dc:subject/>
  <dc:title/>
</cp:coreProperties>
</file>