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AF2A-BB6E-4ED4-A5FD-4D9C3B3BB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97DE-179C-4D65-908D-F9712B82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1777-26FE-44C5-A3A7-6AD32B21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BF8A-72A3-496B-ACBA-B61BDDD04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8547-149E-4723-8D2F-5BFF4431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A31C-458A-4D63-AD84-686DFFB2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B41C-2ACA-4655-9140-83E738E8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AD0E-5597-49B0-91A4-7DD4EA66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106A-F0C2-4630-A3B8-499C2D45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6BB4-4846-4C85-AB80-B7F67D1B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21D4-0433-4C39-889F-A3F3C855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E850-4E41-43B7-9D10-6120F78F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D315F8-A5B1-4C3E-809A-5A7224ABBC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9640" y="45252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9280" y="2700360"/>
            <a:ext cx="594036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6.</a:t>
            </a: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チェーンメールはカット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9280" y="6983280"/>
            <a:ext cx="54007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GB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en-GB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6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チェーンメールはカッ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反省するユミさんで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DA57-B3C2-4FF0-9691-426ACE391B7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6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チェーンメールはカッ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1810-A032-4D62-98B5-3CB9EC22303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6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チェーンメールはカッ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1C39-4A67-439A-9306-AC53265CE11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6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チェーンメールはカッ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13BF-53F4-4A7A-936C-5BA64C999F1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6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チェーンメールはカッ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CF15-19BF-4865-BC36-C7AE9355FFB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6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チェーンメールはカッ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02D8-4583-467A-ACA5-1CFFF9E81D96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6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チェーンメールはカッ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A818-2241-46E7-B663-F290689100D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6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チェーンメールはカッ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ユミさんは学校から帰るとすぐにメールチェックしています。友達のリカさんからメールが届いてい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3B06-C62D-4CC3-B66A-D5DBC2FAB9B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6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チェーンメールはカッ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19280" y="6119640"/>
            <a:ext cx="7200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リカさんからのメールはコンピュータウイルスに注意するように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書かれたメールで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862E-BB6D-4129-B9DE-C99857DC273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6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チェーンメールはカッ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リカさんが親切に教えてくれたメールには「他の人に知らせてあげてください。」と書かれていたこともあり、ユミさんも友達に教えてあげようと考え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ADE2-E5E5-48C4-8843-98C2573FF13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6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チェーンメールはカッ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84360" y="5940360"/>
            <a:ext cx="75247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さっそく、ユミさんは友達全員にメールを転送してあげ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こで考えてみましょう□□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このウイルスの情報は本当でしょうか？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「他の人に転送してください」と書かれているからといって、受け取った人がみんな転送したらどうなるでしょう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6629-7FFD-43C7-ADD7-D3DDEA0BB56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6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チェーンメールはカッ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次の日も同じようなメールがたくさん届き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45B6-F616-4514-A997-08D6F93A701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6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チェーンメールはカッ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19280" y="6119640"/>
            <a:ext cx="7200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ユミさんはどうして何通も同じウイルスに関する情報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届くのかわかりませ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0727-D0D6-40C3-A5BB-C0197958372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6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チェーンメールはカッ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19280" y="6119640"/>
            <a:ext cx="7200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シン君からは「何通も同じメールが届き、しかも、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嘘の情報で迷惑だ」という抗議をうけ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460600" y="1727280"/>
            <a:ext cx="522936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655E-7916-44C8-8CF6-352B7D54ECB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03-22T02:45:58Z</dcterms:modified>
  <cp:revision>2</cp:revision>
  <dc:subject/>
  <dc:title/>
</cp:coreProperties>
</file>