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080-5C4D-418E-8005-4ED91069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837-6752-440F-8FAB-EE37D9BE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777-21FF-4E81-8943-96357862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CBE-BAE3-416A-BF2E-564A54F9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6F1-1AD3-4C14-A81D-483628DA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F17-D2A9-4CAA-AED6-622AB21D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D2F-795F-451E-B21C-96F85379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B03-5C49-468F-994A-45BDE26F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4C5-CAD5-4728-B564-55B9691B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C53-CC1F-4E8C-B9EC-6CCF0D03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3CA-1B4F-4F49-8F66-1638942D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4D6-62F1-495B-91B9-A5B2A585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0C6F6-31D0-470D-8C88-51A9156976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48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13F-D756-46AF-B4EC-DAF304A81A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D62-39D1-493E-A659-2DCA256BFA4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F58-AB35-4B2B-B388-950BC3D0F19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284-7D65-4939-8146-558B01D840B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EBE-A130-4492-A6E1-2777EACCE52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3D2-8ADC-4DC2-9D2B-330C5A4FF686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日、ケイコさんがインターネットにアクセスしていると、おもしろそうな占い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F0F-1D7C-44C8-BC02-74521D59D99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ダウンロード、ご使用無料」という言葉にもひかれてさっそく、ダウンロードしてみること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9AC-AF06-41A5-8107-CDEF5E611DE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56A-5284-4690-A65F-011EEE01AC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ウンロードが始ま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95E-77A9-4558-89E5-4753B5285E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45F-A54E-4FB0-A3E9-63E4F9FC6B4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ウンロードが終わり、さっそく占いを試してみました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もしろいので、どんどん夢中になってしまいました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718-2F72-426D-B6C7-D22BD5CD3D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ころが　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892-13F8-4F02-8CEF-9EB039674F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料ダウンロード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次の月、多額の国際電話の請求書がきてしまいまし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DE5-75B7-45CC-BE8F-48750BEE132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47:23Z</dcterms:modified>
  <cp:revision>1</cp:revision>
  <dc:subject/>
  <dc:title/>
</cp:coreProperties>
</file>