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F51-083A-453C-A845-47632883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B71-AC75-4339-8744-5172FFC6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C1C-2B40-4377-82DA-6D27C7F7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96F6-AD8B-48CE-8E75-35B4E8E9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930-1D1B-4CDA-8CB5-43B938B5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0E8-9DE8-4DDF-9A55-E6BAA174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ACB-9F19-44CF-B32B-C83BB7B9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842-B07F-4444-A1A7-AA25CAB3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47C-26D3-4D71-A61D-CC1BE159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A27-76A3-4F26-8CAA-DE978BD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2E89-2883-4581-8D41-9F92733E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13A-5F93-4A35-9ACA-F3954A0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4AC49-0C30-4552-AA65-076541CF89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</a:t>
            </a:r>
            <a:r>
              <a:rPr b="1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よう</a:t>
            </a:r>
            <a:br>
              <a:rPr sz="3600"/>
            </a:b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ウタ君は、ほかの中学校のサイトに「凹凸中学校の修学旅行」の記録があることを見つけたのです。ここには自分がほしい情報がたくさん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らに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117-E5DF-4C12-9F61-D06D7BC1F1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ヤカさんは、「金閣寺」の情報があるサイト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サイトも発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890-74A6-447E-8564-8D23BBF446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ウタ君は、自分が見つけた「ほかの中学校の修学旅行の記録」とサヤカさんが、見つけた「金閣寺」のことをまとめることで、レポートが出せると考え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1260360"/>
            <a:ext cx="486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の２つの情報があれば事前学習はＯＫ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E30C-EE20-4A3E-BE40-1564C5164F1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ウタ君がまとめたレポートは、２つのページにあった内容をコピーして、張り合わせたものです。たくさんの内容が書いてありました。しかし、、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260360"/>
            <a:ext cx="486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先生からほめられました。が・・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DF2-992D-41F3-84AE-CE999609628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見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ページの情報を集め、発表していくのに気をつけなければならないことは何で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1260360"/>
            <a:ext cx="486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ポートは欠陥だら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920000" y="1800360"/>
            <a:ext cx="18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たままレポートを作成したので、学校名が違っていました。それに、「金閣寺」についての説明が間違って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0A3-B3F8-4F2A-AE26-66F18C61F3A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1B4-20EE-447F-B780-7B08BD52B07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1F6-D703-4A01-B8C7-2627B2F759B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D6C-934C-481D-A860-BE0E0410DED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831-BA3E-4D8E-8A3D-6E796D34151C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ウタ君とサヤカさんは、修学旅行の事前学習でインターネットの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eb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ページから情報を得ようと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ンターネットで修学旅行の調べ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F54-CE1D-4C28-B843-52F76D0FC2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ウタ君は、サヤカさんの話を聞いて、検索エンジンを使って「京都」について調べ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ーワードで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1D9-5419-432F-ABBD-9F882489B10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実際に検索エンジンを使って「京都」を調べてみましたが、「京都」のことがたくさんありすぎて困っ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んなに情報があるの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0A9-F31E-4EEE-8F45-3C1AEBA1B2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京都」だけでは情報が多すぎるので、もう一つの追加キーワード「金閣寺」を入れ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検索条件をふやしてみたらど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222-F799-4AA1-BA77-5F26639B4B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ーワードを増やして検索することにしました。（「京都」「スペース」「金閣寺」で検索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ーワードを増やして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784-12AD-4FBB-92D2-479D794ABF1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前より、検索結果は少なくなってきました。でも１万件以上も情報があると、どこから調べたらよいか困っ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検索結果は少なくなって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94C-A846-4B83-AC9D-61F0FA6E348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も、実際には自分がほしくない情報もたくさん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たく関係ない情報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007-DD87-4AE0-BA30-7CB4C37333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.Web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トの情報を活用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なか得たい情報を見つけられないときは、検索条件（キーワード）を変えてみるのも大切だと教わったコウタ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検索条件を変えてみるのも大切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CCD-7241-4150-B04E-D54D59018B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13:38Z</dcterms:modified>
  <cp:revision>1</cp:revision>
  <dc:subject/>
  <dc:title/>
</cp:coreProperties>
</file>