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62F-BAD9-44DB-8995-EC5F0A99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0F1A-0505-4F42-AFD1-6D1B6594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3BE5-2D59-4C7E-818D-53B6847E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625-4177-4B9B-84F8-FC4002C7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66B-E0EB-4A8B-BEA0-F93156C2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D172-990A-4EEE-87C2-98BB749E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61B-C537-42C1-82B8-DE23CCBF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973-4D49-4391-9591-1B601F06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7A9-F973-4A2E-B0B6-EB7547BE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50AA-0C7B-4934-B543-3DF924AB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EBD9-FA96-490D-9AF0-7CBA31E9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0D6-30DA-49D2-8012-6AD2BF2F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5B586-67B2-4AF8-A0D9-5F85F0A776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58000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E76-900B-4324-A14C-B66AB5D247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54B-1C4D-4238-9A57-FAE80C380E4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5956-DDE2-49DE-9093-3BB3F45D427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047-079A-42AE-BCB9-330BDE21C81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CDE0-7803-469F-866B-21739E4EBD1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DC09-F6F1-4AA6-A391-9D937707815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477-E97A-4AA0-A289-0154291BB48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E1E-1955-4EFA-AB77-1475C0897ACA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天文部のシン君たちが、金星観測のために望遠鏡を設置しています。どうやら、金星の定点観測をするようです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金星の定点観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5C3A-8A70-4C0D-AB1B-B7D0C84AFD5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BEB-2C19-4E84-8B3A-2ADD08E016A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6119640"/>
            <a:ext cx="72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撮影は毎日順調に進み、とった写真もずいぶんたまってき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841B-3D2F-42BC-8C01-D2DBA05D8DA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6119640"/>
            <a:ext cx="72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みんなの共同作業で</a:t>
            </a: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eb</a:t>
            </a: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ページを管理するというのは、ちょっと面倒です。しかも、毎日撮影するため、簡単に更新できなくてはなりません。さて、どうしたら良いでしょう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1260360"/>
            <a:ext cx="396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Ｗｅｂページで成果を発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F00-DA12-4D32-94BF-9012149E2FB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6119640"/>
            <a:ext cx="720072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シン君たちは、良い方法を見つけたよう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よう□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を利用する際に、気をつけなくてはならないと思うことを考え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で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964-FD8A-4D41-AF55-5B50E6FE51D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6119640"/>
            <a:ext cx="72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なら、写真や文章を簡単な操作で更新できるので、まいにち観測結果を公開することが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毎日更新されるブロ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B1E-DE70-4A7D-A31F-3A9DA3D3B08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6119640"/>
            <a:ext cx="72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いろな人からの反響は、活動のはげみになりま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いろな反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4CE1-601C-4703-A1D8-ECCBF13BBC5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有効活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6119640"/>
            <a:ext cx="720072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には、いろいろな利用方法がありそうですね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考えよう□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利用方法について、やってみたいことやできそうなことを考えてみ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1260360"/>
            <a:ext cx="2521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ブログの利用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F99C-D4F4-4FDA-8574-1457AD9B723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