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29D-B487-4ADE-A608-DBA0C3CE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910-8635-422E-8142-2AD1EA42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E03-1D1D-4F33-ABF9-2125EF96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458-49D0-490C-BAC0-D945D434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C82-80AB-4566-A3EB-24D92EF2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C46-9BFE-4C3D-A0EF-4246D7DD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7ED-067D-41D3-A50D-583ADF3E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4AB-4549-490F-A97B-A09C1C21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70D-1446-4C05-AA70-A36623EB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FBE-53F3-4CF3-A252-7E505725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9AD-6CE9-471A-8D45-DB8C14E7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6BA-E7F1-4381-BB95-3CA97F78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A2080-003A-4EB9-A59D-5116F08C91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940360" cy="19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　スワード）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C72-B74B-4E07-AD1D-11BA924D30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D22-F38D-447C-A5CD-51577D45909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656-B427-4266-A82D-9AC353DB8718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イスケ君は，トオル君の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D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パスワードをメモに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ひかえ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0360" y="1260360"/>
            <a:ext cx="54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オル君の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パスワードをみつけたダイスケ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0D2-2C64-4E8E-9E64-13C54B73EF7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オル君の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パスワードを使って電子メールが使えることが分か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00360" y="1260360"/>
            <a:ext cx="54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パスワードを試すダイスケ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541-84DC-42C9-9C6A-F9A304D4A6B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んどはダイスケ君本人の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パスワードでメールチェックし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C26-AF6C-43AA-ACE5-145310843BC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分に届いたので、これでいたずらしようと考え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FA2-75FF-4183-86EE-54566287E0C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6119640"/>
            <a:ext cx="75978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イスケ君は，トオル君になりすまして，うそのメールを発信し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00360" y="1260360"/>
            <a:ext cx="54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たずらメールを発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E3B-8A15-4087-A367-7578F5A917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軽いいたずらのつもりだったことが，大きな問題にな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00360" y="1260360"/>
            <a:ext cx="54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学級会で問題に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557-1661-4798-B336-2B1AF7D1FD3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00360" y="1260360"/>
            <a:ext cx="54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見つかったいたず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EBB-B08F-450B-B89B-6EC86C8DCF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他人になりすまして（パスワード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先生に注意されてダイスケ君は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反省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B3D-DD99-4B83-8E00-45C439231D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54:27Z</dcterms:modified>
  <cp:revision>1</cp:revision>
  <dc:subject/>
  <dc:title/>
</cp:coreProperties>
</file>