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C308-1589-415E-8986-F708231E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4A59-324E-4600-AE56-AC3579B9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5371-CD52-4B2A-846B-AC8C2E7D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8529-6A44-4B81-8495-9F5F5BD49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ED88-C05A-4174-8BC9-344609A2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E93E-A590-4A74-A9AE-C1DCBD76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3B90-98DA-45B4-8582-0826D495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313A-283D-45DF-A6FC-0B89492D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38DC-818D-4247-B0AC-32AB65DF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CABB-897F-4990-8CF5-99360918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D6F8-5CD3-453C-895F-36E3C0CE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6D7B-6305-4FEE-8AD6-0A9E7CC9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D2B25-B0A1-4BB3-8812-07A5561AF0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558000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人向けの情報に注意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人向けの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4DD6-42E6-457E-AD97-80D913DF4A4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人向けの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19280" y="6300720"/>
            <a:ext cx="181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D267-ADC0-4687-8273-9567A60809D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人向けの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EF6A-F7F8-43F6-9D00-CC3C3292D9C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人向けの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A2E9-87D3-478C-80D9-614B935756BB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人向けの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タイチ君が家のコンピュータで新しいビデオについて調べようと考えています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4089-505D-4B7B-99FC-5D17BAF671D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人向けの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タイチ君はサーチエンジンを使って「新作　ビデオ」のキーワードで検索しようとしています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1107-9CE0-4CB0-A67E-6060D4A2F6E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人向けの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84360" y="5940360"/>
            <a:ext cx="745344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検索の結果が表示されました。その中には、「秘密　アイドル映像」という大人向けの情報も含まれて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こで考えてみましょう。□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検索画面にこのような大人向けの情報が撰ばれた場合には、タイチ君はどのようにすればよいのでしょうか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740D-84B2-42E3-B590-350F67D7C83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人向けの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タイチ君は、「秘密　アイドル映像」という言葉に興味を持っています。あたりをうかがって、自分一人なのを確かめて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0165-3705-4437-B003-2A7634B6E34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人向けの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19280" y="6119640"/>
            <a:ext cx="7200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こで考えてみましょう。□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「あなたは１８歳以上ですか？はい　いいえ」という表示が出てきた場合はどのようにすればよいのでしょうか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19280" y="1260360"/>
            <a:ext cx="57610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クレジット明細には、、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20DF-2F60-4CDF-9949-D037EAE9F67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人向けの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人向けの情報が表示されてしまいました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D23D-1708-4447-BEF5-974FA45FC94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人向けの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119640"/>
            <a:ext cx="7200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こで考えてみましょう。□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ぜ、お父さんはタイチ君が大人向けのページを見ていたことがわかるのでしょう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B8E4-9D19-4646-B728-CF1EA6A1BC4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人向けの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父さんはブラウザ（ホームページ閲覧ソフト）の履歴を調べてタイチ君が見たのだと分かったので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93B8-080F-4843-AC91-7CF90C38ACA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5:06:26Z</dcterms:modified>
  <cp:revision>1</cp:revision>
  <dc:subject/>
  <dc:title/>
</cp:coreProperties>
</file>