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8BC3-EB91-42B8-9F35-DA29634D3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4F4C-AF42-4922-9F31-1BF10DCFE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1454-CBD4-490D-B92D-1C457F8FB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6243-4D00-4C66-8D84-2E4E65A0B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60D3-2A46-4796-8075-416BBA457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BE35-F0B8-4757-8B20-4AB1BAB4C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57E0-6EDF-4D51-B9C2-FE89F08A6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7F2E-74D8-48F3-BB25-626289C8B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EAF7-E12F-4736-95A2-A88783707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4972-4B06-4ADD-A077-0650767D6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8EE6-FD3A-4014-A56C-AA6EA7CBF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E7CF-7AEE-4B35-A0FC-F1CAD11CF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F6BC4E-E3BF-4780-A50E-2E9265B942D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9640" y="452520"/>
            <a:ext cx="3421080" cy="5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19280" y="2700360"/>
            <a:ext cx="5580000" cy="14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8.</a:t>
            </a:r>
            <a:r>
              <a:rPr b="1" lang="ja-JP" sz="3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ファイル共有ソフトは　要注意</a:t>
            </a:r>
            <a:br>
              <a:rPr sz="3600"/>
            </a:br>
            <a:br>
              <a:rPr sz="3600"/>
            </a:br>
            <a:r>
              <a:rPr b="1" lang="ja-JP" sz="3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プレゼンテーション資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59280" y="6983280"/>
            <a:ext cx="5400720" cy="2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著作権は独立行政法人情報処理推進機構（</a:t>
            </a:r>
            <a:r>
              <a:rPr b="0" lang="en-GB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IPA</a:t>
            </a:r>
            <a:r>
              <a:rPr b="0" lang="ja-JP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）及び経済産業省に帰属し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7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480000" y="272880"/>
            <a:ext cx="3421080" cy="5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8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ファイル共有ソフトは要注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635F-EE4F-4FD8-A913-374319DACA0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7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480000" y="272880"/>
            <a:ext cx="3421080" cy="5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8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ファイル共有ソフトは要注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316C-467B-405F-B2F7-B70B6C98FB0C}" type="slidenum">
              <a:t>1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480000" y="272880"/>
            <a:ext cx="3421080" cy="5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8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ファイル共有ソフトは要注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5D91-114A-444E-8D2A-8F55F27641C9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0000" y="272880"/>
            <a:ext cx="3421080" cy="5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8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ファイル共有ソフトは要注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19280" y="6119640"/>
            <a:ext cx="720072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ケンタ君はパソコンやインターネットを使って楽しんでい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31B0-C5CC-47FD-826A-32ED590E1258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480000" y="272880"/>
            <a:ext cx="3421080" cy="5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8.</a:t>
            </a:r>
            <a:r>
              <a:rPr b="1" lang="ja-JP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ファイル共有ソフトは要注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440000" y="6119640"/>
            <a:ext cx="738000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ケンタ君はインターネット上でファイル共有ソフトを見つけまし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9B4E-40D3-4F34-B354-EC3E048A258F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480000" y="272880"/>
            <a:ext cx="3421080" cy="5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8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ファイル共有ソフトは要注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619280" y="6119640"/>
            <a:ext cx="720072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興味を持ってさっそくインストールしまし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B07F-3679-409F-BB8C-926C2FED72C0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480000" y="272880"/>
            <a:ext cx="3421080" cy="5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8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ファイル共有ソフトは要注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B5A3-18F7-4F76-93F5-EA20CE9B22C2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480000" y="272880"/>
            <a:ext cx="3421080" cy="5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8.</a:t>
            </a:r>
            <a:r>
              <a:rPr b="1" lang="ja-JP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ファイル共有ソフトは要注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619280" y="6119640"/>
            <a:ext cx="72007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データ共有している他の人のファイルが見れるので欲しいデータをダウンロードでき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15AE-9849-4E18-B952-247019E0B8DD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5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80000" y="272880"/>
            <a:ext cx="3421080" cy="5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8.</a:t>
            </a:r>
            <a:r>
              <a:rPr b="1" lang="ja-JP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ファイル共有ソフトは要注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619280" y="6119640"/>
            <a:ext cx="7200720" cy="6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□□</a:t>
            </a: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ここで考えてみましょう□□</a:t>
            </a:r>
            <a:br>
              <a:rPr sz="1800"/>
            </a:b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いろいろな人のパソコンに登録されている音楽データなどをダウンロードする行為について、どのように考えましたか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EC52-B890-4064-86A8-21541C7A73CE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6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480000" y="272880"/>
            <a:ext cx="3421080" cy="5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8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ファイル共有ソフトは要注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9ED5-2780-442B-8BDC-7ED14F13AAB9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RIMOTO</cp:lastModifiedBy>
  <dcterms:modified xsi:type="dcterms:W3CDTF">2006-03-22T02:29:51Z</dcterms:modified>
  <cp:revision>4</cp:revision>
  <dc:subject/>
  <dc:title/>
</cp:coreProperties>
</file>