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3845-94C6-49CC-8574-1AC99BD1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6FA-7D8B-4505-887B-CC949C5A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EDF-5D58-4E6B-9331-BE40421E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298-963F-4AAE-A692-4C5A62F0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1B7-183C-46E1-A409-2CD2182B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997-76C6-4000-BDE1-4F3ABDB3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A45-BC2D-4DC0-A136-AB022674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994-0D0B-498C-B75B-A05B7856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ACE-BA2E-4906-BEF6-F1449F04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7EA-BB45-4F40-99FB-5E94A74E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487C-9E28-4972-BE39-37EFD3E4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75F-2CED-4E34-A088-11EB3401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321FF-EB8F-4D6D-822F-C71FEF4E49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76108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営業妨害で訴えられるかも知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変なことになりました。あやまって、許してもらうしかなさそうです。すぐに文章も削除しなければいけません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抗議のメール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52E-2454-4D5B-A97C-4B99F547B9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80B-17A3-4118-B536-347DBA9E951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C5B-5FE1-42D9-91DE-D3D668B6DE5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9DD-007F-4A8A-BB86-A8EC870FFB77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260360"/>
            <a:ext cx="360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で考えを発表する勉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5F2-1016-4A76-BA95-C742D318078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分でもブログを公開しようと考えました 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を自宅でも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09A-5D95-46D3-8526-A48D564FC4C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きあがり、多くの人が見てくれるかも知れ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が完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89C0-8F32-4EC4-B48A-15D8FF7DD72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6119640"/>
            <a:ext cx="72007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すがあまり見てくれる人はい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ましょう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どのような内容を書くと沢山の人が見る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E70-FA0D-4408-8901-432A75D7F3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カコさんは見た人が面白がると思って、デタラメな内容の文章を書いてしまいました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1260360"/>
            <a:ext cx="414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デタラメな内容を・・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B5DB-7BF9-4BD6-9A4A-26F3D2A61EC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して、自分のブログをたくさんの人が見るように登録しました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自分のブログを宣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2AB-8F8E-40A0-BFF6-6092AB7E372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6119640"/>
            <a:ext cx="75596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腹が立ったからと，近所のラーメン屋のデマを書くことについ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ームページ（ブログ）に掲載することによる影響の大きさについ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ームページ（ブログ）に公開することの意味につい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効果があ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7AA-0173-4FFE-94E9-22293CD38E6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で悪口が罪にな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7E7-42A5-478E-A4F1-EC918F61455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4:03:32Z</dcterms:modified>
  <cp:revision>1</cp:revision>
  <dc:subject/>
  <dc:title/>
</cp:coreProperties>
</file>