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85D-B0B4-4903-B707-DBACF6D8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9F9D-4706-47F6-BFC1-87002A9C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074-D4CE-4505-9F6D-CC0BC89D7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060-92D7-475D-8FA4-E3B8F742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9A1-0448-4E3A-BD5B-DD483F8C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F71-56A1-4E53-BBDD-B3A18340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B42-C5F9-48CA-97E7-27950EB5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4D2-8E47-4505-A095-D4399C7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6EC-65E6-443C-A84C-2244B838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6F0-3C39-46CF-9937-D21495C6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EFC-AF15-4107-A258-86B243E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8CE-46D3-4726-963F-C0A88CEF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F8D7A-2C53-4E21-A0AB-908C063BAD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AE7-7CF2-4D54-8988-421955C624D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524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は自己紹介のホームページを作ることを思いつ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81F-A106-4598-B384-015CA90A6B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は深く考えずに、ホームページに家族の写真や携帯電話番号ものせ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260360"/>
            <a:ext cx="43196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ームページの内容は．．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BA6-3108-4168-B168-00C7F3E52B5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のまま、ホームページを公開することは問題ないでしょうか？●もし、問題あるとすれば、どの部分でしょうか？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260360"/>
            <a:ext cx="486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家族のことを書きまし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782-B090-4181-A086-1ED7E6AC1A3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姉さんの携帯電話に変な電話がかかってくることを聞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姉さんが．．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405-B6D7-4ACF-9A36-0CB87ECFAA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は、もしかしたらどこか変なホームページにお姉さんの電話番号などが公開されているかと思い、検索サイトで探してみました。やはり、見つか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知らない人のホームページ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5D1-20AA-428E-A774-724CB40BAB2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もしかしたら自分が作ったホームページが原因かも知れないと思いまし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E0D-AF92-488B-BC63-DB2729A42D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の行動によって、このような問題が発生することがあります。それは、どの部分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電話番号以外にどのような個人情報について、注意すればよいでしょうか？ 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1260360"/>
            <a:ext cx="468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姉さんに調べたことを報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3FC-F62E-417E-A924-7107D4CBE9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公開しな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16F-D9DF-4EFF-B12E-0BCC083696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26:45Z</dcterms:modified>
  <cp:revision>1</cp:revision>
  <dc:subject/>
  <dc:title/>
</cp:coreProperties>
</file>