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1DE-5415-4F9F-9256-08C3B482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902-8FDD-4EB4-9548-314DF846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70D-A007-4164-91C2-86CC185D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872-6E26-4BEE-B492-843F9D68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60B-FBEE-4A78-AA3E-BD7CA2D1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4E9-CC19-40E5-9D4B-B4159C29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47E-D4B1-471C-A9F0-9A5CDFE7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275-4AAB-4F3E-8495-35A01C1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99C-0C9C-477B-8E22-9155BFD6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553-0A45-4F08-B366-12432641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C25-2BE4-4FDC-92B6-56F418D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4B7-8CDC-481A-964B-D6F69339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A8101-C3D2-4A86-A0B1-C92A06B4A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76108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C87-50D7-4B9A-9225-0AC2880E64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98B-6803-4E9F-BB62-5AA46BF648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21D-91EB-4964-8F66-5E4019EB5800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597-D1D6-4DDF-99BD-274CA7E33E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4733-96A0-48A7-8FA5-7E9493957E5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母さんたちは近所のスーパーについて、どこが安いとか、どこの品がよいとかの話しをしているのを、リカコさんは聞き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59E-96FC-4544-9886-28D54E20F2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6119640"/>
            <a:ext cx="75596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こで、そういうスーパーの比較をブログにのせることにし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こで、考えてみましょう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ぜリカコさんは、この「スーパー」の情報をブログにのせようとしたの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83D-2298-4009-838C-B0945B47F6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2EDC-AC3A-47B6-9BB6-55B66411EE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その情報をありがたがってくれた人もいたけれど、、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0C5-6B48-45A1-B7D1-2FB8D6BE55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よく書かれなかったスーパーの経営者からメールがき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ED6-F2CA-47C7-85B3-10034AED74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0720" y="539640"/>
            <a:ext cx="59403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確かな情報を発信しよ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84360" y="5940360"/>
            <a:ext cx="755964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の内容は抗議の文章でした。□□ここで考えてみましょう。□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のスーパーの人からのメールを見て、リカコさんは何を感じたであろう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リカコさんはこのスーパーのことを書くとしたら、どのように書けば良かったでしょうか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4F6-DCFD-4257-8142-909F83D488C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9:11Z</dcterms:modified>
  <cp:revision>1</cp:revision>
  <dc:subject/>
  <dc:title/>
</cp:coreProperties>
</file>