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416-A6B3-4F3C-8F44-6A6CFAC3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CE3-B81A-4296-A7FC-944F71D2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B1F-5224-4C91-B35E-6BE61DB4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9C3-DA5A-404A-BC64-780CCD46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00A6-1375-43F3-9C45-83103B08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F4C-4C1E-47C6-B537-B2A2631F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08D-86B3-45F7-AD26-F931E45A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BCC-0DC0-4AC5-99AD-B021FF41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F52-76AD-4EDD-A501-5C954D1E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DA6-1D68-4EFE-B101-6C104EAB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EEF6-6EF2-43BF-BB23-EE550115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A1C-906B-4A8E-9211-ED9BFD43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C4ACC-5676-498F-9B73-3140A657CB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40072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F13-7AA4-4552-872B-EE9AEE4E38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0720" y="61214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新しいパスワードでなぜかログインできません。入力ミスも無いので今度は試しに前のパスワードを入力してみ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99D-D5A6-465B-80B1-37F897109EB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0720" y="61214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今度はログインできましたが、ゲームのアイテムや通貨が無くなって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77ED-3106-42EE-9092-A253E987DF1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60720" y="61214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ヒロシ君には原因が分かりません。通貨やアイテムが誰かに取られてしまったの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A85-CB4C-4017-9324-BF0C2B44483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626-C67A-457A-A4FD-C4DAEED0BD7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91B-A3EB-47A5-B5DD-8C0BD8204CE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2CB-A202-4423-8D46-167B91D5B1F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612-0ED3-4B5B-AFBE-A5D00A34E07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D74-6639-4D75-9A80-DCD32A94F66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5DA-C64A-4BAD-A300-93A45195617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394-AEB8-4AAC-92D1-61A6D51EE89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413-D419-4147-938F-4E76380985B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60720" y="6119640"/>
            <a:ext cx="5761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ールの件名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イトル）だけでは分か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6192-ABB7-4018-BC47-3365F0E1EFB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60720" y="61196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しかし、「重要なお知らせ」とあるのでメールの内容を読んでみ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CEA5-01C5-4D09-B57C-2E01B6709F2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60720" y="61196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ーバーコンピュータが不正侵入されたので、パスワードが他人に知られた可能性があるとの事、至急変更してくださいという内容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438-29BB-4D88-B787-0A0975B3CB0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60720" y="61196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ール本文にあるＵＲＬにアクセスしてパスワードを変更するように書かれているので、指示に従ってＵＲＬをクリック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E8F-6CFD-4DEF-852D-DB5037D48E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60720" y="61196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先ずはログインＩＤとこれまで使用してきたパスワードを入力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CEE-EC04-4895-B137-7CFD5978307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ィッシングサイトにつられる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60720" y="61214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して新しいパスワードも入力しました。これで安心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C40-38BD-4C11-8E6C-DC0924559A0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5:09:51Z</dcterms:modified>
  <cp:revision>2</cp:revision>
  <dc:subject/>
  <dc:title/>
</cp:coreProperties>
</file>