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0B5-8BBB-424F-84A8-09F96E1B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A92-918C-4A0E-916B-5A25233F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CB3-9708-4315-A9BF-AC9756A8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A135-5F9C-416B-9648-D91F7AAA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32C-90CE-459E-94D1-B06C7E7C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7C6-4943-4F13-AABC-795814C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55A-D40C-4444-93C7-7831AC8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C0F-A7B3-4B70-91B8-D6142FF2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1D1-F523-4EEA-8ECC-CF40584F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7A4-A06F-4B4F-843F-59CF790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61C-292E-4F1F-AEC6-069A2091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F94-B219-4CFD-B580-8E0F896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A3EAB-4B33-4ED6-BF4B-01767B8109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2F9-430A-4535-8BA2-54C6790AAF2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かし、翌日にはもっとたくさんのメールが届い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893-0D6B-4EFD-9333-D698C5F0D87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「送信しないでください」というメールを送ったのに、どうしてメールは止まらなかったのでしょうか？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返信したことにより、どういう危険が生じる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B31-B05E-484A-91F6-8325D9E81D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B0D-8D54-4C67-BEFB-11B07F3D14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D5B-1B8D-4BBD-80B9-0403605602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E59-F961-4702-86E6-1960D10DDAF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1BE-6969-49C9-9B87-81AFA1323A4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7F2-1386-49CA-9005-01A1154D47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知らないところから、毎日、メールが届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3F9-7CE6-4173-9925-8D1A60A6E7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欲しくもない商品を紹介する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E50-C9AF-434E-9003-1C05955814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キラ君は毎日このようなメールが届き、うんざり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24F-6F17-4AB6-B871-73D510F239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4534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ン君は無視するのが一番だとアドバイス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、メールには情報が不要な人は返送するように書か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240-8365-4DF9-AD83-59542BB835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597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キラ君はもう送らないで欲しいとメールを返送す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922-B00B-4EC3-BEBC-9970E281DC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8C2-EB2A-482A-AA07-7C197124B4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スパムメールは無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送らないで欲しいというメールを送信したにもかかわらず同じようなメールが届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B84-1AE6-47C0-8B8B-024E4BD7CBD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20:34Z</dcterms:modified>
  <cp:revision>1</cp:revision>
  <dc:subject/>
  <dc:title/>
</cp:coreProperties>
</file>