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F9C-515D-4F8F-8AF9-A1956210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A44-D27E-4BCD-835C-1BF12739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8BE3-C66A-44D5-B45E-7870244E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E832-1A1C-485C-A8F0-A71899B8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420-D4C9-42F1-B525-A8A50D79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83C-D760-4CAC-99D6-AF42F7B2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604-0F27-4E70-9686-416CDB27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53E-C7FB-4E80-A1B3-1B188CB5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F7D-36F7-45E7-9975-223DA3B8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16C-23E0-46BB-B870-2BCD8718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AE6-14A0-4E40-993D-7FCA1389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746C-C843-41DF-957E-ED5A62F3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F57D4-3B92-4F58-9D45-4C05445BE0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5800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そして飲むのをやめ、机の引き出しにしま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AF9F-1206-43EC-9022-EF60AC2099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一週間後、受験必勝薬を販売しているサイトをみたところ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806-266E-4BD6-8CD4-68D24352614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59A-8113-4706-B810-ED68675264D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ワタル君は法律で販売を禁止している薬を買っていたの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AEA-34CA-42AD-8ACE-B3D9271DD8B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51E-9A71-46E2-8CB6-E04F6A98741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CA2-15DB-4A67-BD43-B0548FF36FC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AF7-41CF-4DBC-A73C-5FEC9FF775C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E81-C715-49C1-B575-7D503B893CA3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00F5-1D61-4173-A8DD-61927ED9239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ワタル君はおもしろそうなページを探しています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D0C-3E43-4017-80E8-8E88570083F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2B2-D45A-484B-BF86-5A1129DBA22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るページに興味がわきました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167-BB03-48B4-8216-3581BF2898E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何やら受験必勝の薬、頭の回転が良くなるというキャッチフレーズに興味がわきました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88B-4508-4222-A863-DC80DD8AF57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結局、購入することにしました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5B59-5DFB-4048-8078-88E20BE753C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5E3F-B9DE-4024-AD1E-8EB2965EA6C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危険な情報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も説明書がついていないので心配になりました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BCB-B0C5-4916-8BD8-BCEC54BCEF1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22:48Z</dcterms:modified>
  <cp:revision>1</cp:revision>
  <dc:subject/>
  <dc:title/>
</cp:coreProperties>
</file>