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C4A5E9-12E4-4C94-B66B-981949EA365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3476D-29F7-4C32-B08A-E4ECDB9F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610A-FBB4-4E61-92B8-A7C5C7DF1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EE3E6-B67D-42BF-ACE2-25167E4AB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90FDB-C87B-4AF1-9501-16E9CB53A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21D24-1638-4B8B-B6F6-00499CDB8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6AD65-C5E6-4C8E-ABBC-6760ED3A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52BAB-2B61-4522-9237-5A18D8ABF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89993-DF22-4D37-8FBF-79DDF17BF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30BF6-B407-454B-A9AB-65A978228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3D00-ECA2-4BB2-A4D9-5EA03651D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315AC-0CA4-494F-B6BE-BD10BB8DA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D59C-AE72-4FB5-B127-E62B6A452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E037923-FBAF-4A29-8058-FA9FD10E015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6481800" cy="122544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2.</a:t>
            </a:r>
            <a:r>
              <a:rPr b="1" lang="zh-CN" sz="3600" spc="-1" strike="noStrike">
                <a:solidFill>
                  <a:srgbClr val="000000"/>
                </a:solidFill>
                <a:latin typeface="ＭＳ ゴシック"/>
                <a:ea typeface="ＭＳ ゴシック"/>
              </a:rPr>
              <a:t>スパイウェアに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はコータロー君たちが勝手にソフトウェアをインストールしたことがあるか聞いて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8505B12-94DE-481B-8D5A-C401074FFA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97" name="" descr=""/>
          <p:cNvPicPr/>
          <p:nvPr/>
        </p:nvPicPr>
        <p:blipFill>
          <a:blip r:embed="rId1"/>
          <a:stretch/>
        </p:blipFill>
        <p:spPr>
          <a:xfrm>
            <a:off x="2436840" y="1690560"/>
            <a:ext cx="5229360" cy="4191120"/>
          </a:xfrm>
          <a:prstGeom prst="rect">
            <a:avLst/>
          </a:prstGeom>
          <a:ln w="0">
            <a:noFill/>
          </a:ln>
        </p:spPr>
      </p:pic>
      <p:sp>
        <p:nvSpPr>
          <p:cNvPr id="9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86E0B71-7238-4BFB-9E3C-4C2FAE1B73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6E8CE7B0-6AEE-4E4B-A4CE-3F3C8EBFC5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5" name="" descr=""/>
          <p:cNvPicPr/>
          <p:nvPr/>
        </p:nvPicPr>
        <p:blipFill>
          <a:blip r:embed="rId1"/>
          <a:stretch/>
        </p:blipFill>
        <p:spPr>
          <a:xfrm>
            <a:off x="2436840" y="1690560"/>
            <a:ext cx="5229360" cy="4191120"/>
          </a:xfrm>
          <a:prstGeom prst="rect">
            <a:avLst/>
          </a:prstGeom>
          <a:ln w="0">
            <a:noFill/>
          </a:ln>
        </p:spPr>
      </p:pic>
      <p:sp>
        <p:nvSpPr>
          <p:cNvPr id="10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2</a:t>
            </a:r>
            <a:endParaRPr b="0" lang="en-US" sz="1600" spc="-1" strike="noStrike">
              <a:solidFill>
                <a:srgbClr val="000000"/>
              </a:solidFill>
              <a:latin typeface="Arial"/>
            </a:endParaRPr>
          </a:p>
        </p:txBody>
      </p:sp>
      <p:sp>
        <p:nvSpPr>
          <p:cNvPr id="10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C34C648-A878-4FC1-9561-7A8C6ECE5D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3</a:t>
            </a:r>
            <a:endParaRPr b="0" lang="en-US" sz="1600" spc="-1" strike="noStrike">
              <a:solidFill>
                <a:srgbClr val="000000"/>
              </a:solidFill>
              <a:latin typeface="Arial"/>
            </a:endParaRPr>
          </a:p>
        </p:txBody>
      </p:sp>
      <p:sp>
        <p:nvSpPr>
          <p:cNvPr id="111"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5941CFC-08DE-4D54-B8B2-F1883421ED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4</a:t>
            </a:r>
            <a:endParaRPr b="0" lang="en-US" sz="1600" spc="-1" strike="noStrike">
              <a:solidFill>
                <a:srgbClr val="000000"/>
              </a:solidFill>
              <a:latin typeface="Arial"/>
            </a:endParaRPr>
          </a:p>
        </p:txBody>
      </p:sp>
      <p:sp>
        <p:nvSpPr>
          <p:cNvPr id="11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D6A8208-14A5-4024-AFD4-D8E6F6B665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17" name="" descr=""/>
          <p:cNvPicPr/>
          <p:nvPr/>
        </p:nvPicPr>
        <p:blipFill>
          <a:blip r:embed="rId1"/>
          <a:stretch/>
        </p:blipFill>
        <p:spPr>
          <a:xfrm>
            <a:off x="2436840" y="1690560"/>
            <a:ext cx="5229360" cy="4191120"/>
          </a:xfrm>
          <a:prstGeom prst="rect">
            <a:avLst/>
          </a:prstGeom>
          <a:ln w="0">
            <a:noFill/>
          </a:ln>
        </p:spPr>
      </p:pic>
      <p:sp>
        <p:nvSpPr>
          <p:cNvPr id="11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5</a:t>
            </a:r>
            <a:endParaRPr b="0" lang="en-US" sz="1600" spc="-1" strike="noStrike">
              <a:solidFill>
                <a:srgbClr val="000000"/>
              </a:solidFill>
              <a:latin typeface="Arial"/>
            </a:endParaRPr>
          </a:p>
        </p:txBody>
      </p:sp>
      <p:sp>
        <p:nvSpPr>
          <p:cNvPr id="11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05A4417-0DB4-4C83-9E5F-C99DA241CE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121" name="" descr=""/>
          <p:cNvPicPr/>
          <p:nvPr/>
        </p:nvPicPr>
        <p:blipFill>
          <a:blip r:embed="rId1"/>
          <a:stretch/>
        </p:blipFill>
        <p:spPr>
          <a:xfrm>
            <a:off x="2436840" y="1690560"/>
            <a:ext cx="5229360" cy="4191120"/>
          </a:xfrm>
          <a:prstGeom prst="rect">
            <a:avLst/>
          </a:prstGeom>
          <a:ln w="0">
            <a:noFill/>
          </a:ln>
        </p:spPr>
      </p:pic>
      <p:sp>
        <p:nvSpPr>
          <p:cNvPr id="12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6</a:t>
            </a:r>
            <a:endParaRPr b="0" lang="en-US" sz="1600" spc="-1" strike="noStrike">
              <a:solidFill>
                <a:srgbClr val="000000"/>
              </a:solidFill>
              <a:latin typeface="Arial"/>
            </a:endParaRPr>
          </a:p>
        </p:txBody>
      </p:sp>
      <p:sp>
        <p:nvSpPr>
          <p:cNvPr id="12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BCFF7B1-9818-46A7-9FF3-7658C24AFCDF}"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インターネットのＷｅｂサイトにはいろいろな情報やデータが登録されており、無料でダウンロードできるゲームなどもあ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DB8C8A5-7F23-4EE2-AD96-BA728356D83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6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1800360" y="6119640"/>
            <a:ext cx="75610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ータロー君の見つけたゲームのサイトをトシキ君に教えてあげ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9C159C0-B76B-4B19-9BCF-17C0A6218A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63" name="" descr=""/>
          <p:cNvPicPr/>
          <p:nvPr/>
        </p:nvPicPr>
        <p:blipFill>
          <a:blip r:embed="rId1"/>
          <a:stretch/>
        </p:blipFill>
        <p:spPr>
          <a:xfrm>
            <a:off x="2436840" y="1690560"/>
            <a:ext cx="5229360" cy="4191120"/>
          </a:xfrm>
          <a:prstGeom prst="rect">
            <a:avLst/>
          </a:prstGeom>
          <a:ln w="0">
            <a:noFill/>
          </a:ln>
        </p:spPr>
      </p:pic>
      <p:sp>
        <p:nvSpPr>
          <p:cNvPr id="6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学校のパソコンにゲームソフトをダウンロードを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2C8EF2-E8C9-454E-961B-C2F2B46EAD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7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いろいろ注意点が表示されるのですが、よく確かめないまま操作を続けてしまいます。そしてその後、ゲームで遊んで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9EE03F-71F1-4DAE-BDEF-E809F3AE3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次の日、授業でコータロー君はゲームソフトをダウンロードしたパソコンの電源を入れたところ、なにも操作しないのに変な画面が表示されて、ビックリ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5ED01B-1D1A-4D41-9B33-62DA62FB20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2.</a:t>
            </a:r>
            <a:r>
              <a:rPr b="1" lang="en-GB"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A655C51-7822-4782-BBC8-9F1266F27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はコータロー君が勝手に関係ないプログラムを起動したと思って注意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C4620B3-CFC5-4E46-9F05-9B494FE5EB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2.</a:t>
            </a:r>
            <a:r>
              <a:rPr b="1" lang="zh-CN" sz="2600" spc="-1" strike="noStrike">
                <a:solidFill>
                  <a:srgbClr val="000000"/>
                </a:solidFill>
                <a:latin typeface="ＭＳ ゴシック"/>
                <a:ea typeface="ＭＳ ゴシック"/>
              </a:rPr>
              <a:t>スパイウェアに注意</a:t>
            </a:r>
            <a:endParaRPr b="0" lang="en-US" sz="2600" spc="-1" strike="noStrike">
              <a:solidFill>
                <a:srgbClr val="000000"/>
              </a:solidFill>
              <a:latin typeface="Arial"/>
            </a:endParaRPr>
          </a:p>
        </p:txBody>
      </p:sp>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本来は学校のパソコンに存在しないソフトウェアがインストールされていたことに気付いた先生はスパイウェアではないかと疑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4D704A-0C5B-448E-BF40-340356A008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24:53Z</dcterms:modified>
  <cp:revision>1</cp:revision>
  <dc:subject/>
  <dc:title/>
</cp:coreProperties>
</file>