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A02-0C44-45C8-B834-ABFA0BA1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2F7-D833-4515-B381-DCB551C1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0CBF-E78D-4C6D-A42F-D1A0F271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6B0-93D4-4A46-A441-1717C0E7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B5D-B05A-4474-9E5A-963FD65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646-BE24-45BC-86F3-1854B849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C62-66E6-40E4-8BB9-8B7BB2D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488-61B8-47BF-90FE-141A49E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9DD-62D0-4FB8-8615-B760EF8C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470-9008-42B9-B1D7-6855B7F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A5B-B899-493B-8709-4FFF6B14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394-B673-43C0-BC00-249838A4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85EBC-6D51-4934-B52A-F3089187DA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E06E-489E-4A07-9BFA-63F34E9B40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6096-7AFE-48ED-B62F-18C4CAD7A36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B86-A814-4C6F-B4DD-616B48670FB6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ズオ君はホームページを見ながら考え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DE-B600-4336-AB67-AD695FFEFC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人気のある野球ファンのホームページを見て気づ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D48-0176-433E-9073-4A7C08FB84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優勝校を予想投票するホームページを作ることを思いつ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C69-BB69-4C71-BF68-06906FBB4B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優勝校を一口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で投票し、当たれば投票口数に応じて配当金を払う仕組みのサイ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FE5-207D-4A48-91FC-1076733149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DB4-98C3-4985-866D-A7214B7118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申込みのメールがたくさん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E91-F522-4BCC-8C7D-A9B8CE1AB8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、警察からのメールも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13A-370C-40E3-B7F8-E7D5F9F85D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ばく行為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ズオ君の行っている行為はとばく行為であり、法律で禁止されているので、警察に来てくださいという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ABC-55AE-414D-87F1-C450A13AF2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02:09Z</dcterms:modified>
  <cp:revision>1</cp:revision>
  <dc:subject/>
  <dc:title/>
</cp:coreProperties>
</file>