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1C8-B9DF-4356-B50C-556F0C84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DBE-FD13-4B79-A31C-824966C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4B7-5C39-43DE-88F1-C58F2C6D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1B3-6D24-4969-9606-84544E88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A9B-7E9B-4870-A6F7-7B432C8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C25-FF04-4FF9-B5EA-7D1D958F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14D-32A9-4E06-A402-6F1941D7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282-C2E1-4A43-BA0B-1EE5EB41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85D-A110-4073-9902-5D555D9F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E17-50CF-4345-8597-8CE33763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53B-8CA4-4498-9B1D-D3FA908E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E22-F7FC-4932-8C48-48B5E061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E92E1-6ECE-49CF-8165-C2C87E6ABC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441-ECB8-4562-99E1-93A585763C1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524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自己紹介のホームページを作ることを思いつ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31F0-01A6-4AFD-B3CA-18DEE4D7E7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深く考えずに、ホームページに家族の写真や携帯電話番号ものせ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260360"/>
            <a:ext cx="43196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ームページの内容は．．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D84-35C9-4AE4-A918-D201DC7249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まま、ホームページを公開することは問題ないでしょうか？●もし、問題あるとすれば、どの部分でしょうか？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260360"/>
            <a:ext cx="48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家族のことを書きまし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5D7-4B57-405D-9FA7-D75465A53C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姉さんの携帯電話に変な電話がかかってくることを聞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姉さんが．．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F78-62DF-44F3-98DE-5F74FF26A0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、もしかしたらどこか変なホームページにお姉さんの電話番号などが公開されているかと思い、検索サイトで探してみました。やはり、見つか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知らない人のホームページ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520-DC3E-48AC-8E11-E1CCF3E5937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もしかしたら自分が作ったホームページが原因かも知れないと思いまし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B69-8DB4-49BE-85D9-79B779F214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の行動によって、このような問題が発生することがあります。それは、どの部分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電話番号以外にどのような個人情報について、注意すればよいでしょうか？ 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1260360"/>
            <a:ext cx="468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姉さんに調べたことを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E7D-039B-436E-AA41-BF133671F4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1B4-CAF1-4341-B247-C5CDF9FD82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26:45Z</dcterms:modified>
  <cp:revision>1</cp:revision>
  <dc:subject/>
  <dc:title/>
</cp:coreProperties>
</file>