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E3B4-3970-41AC-AFE4-5942DF462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3A00-B062-4C7D-8484-7E05B382A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E521-A567-4E62-A38C-99076430C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CBC3-A41A-4AB9-B301-7356A8C6F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63E8-5995-4743-BA82-BB92BAA1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9F37-FFB3-45AF-B609-F8CDE9316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18A6-17A5-452E-A97D-F372FF1CB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2BA4-ACC5-4D0C-A9D7-465A25574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2E5C-6F7B-48A5-9D88-5DC431816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9956-4BB3-49D3-BDE9-4A2FD8EF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3B22-5DF4-4F6D-B663-8D72306E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2E1D-5930-49B5-9447-AF977724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494501-1CAB-415F-A2CF-303D84CA17A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9640" y="45252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19280" y="2700360"/>
            <a:ext cx="5580000" cy="14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危険な情報に注意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レゼンテーション資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9280" y="6983280"/>
            <a:ext cx="540072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著作権は独立行政法人情報処理推進機構（</a:t>
            </a: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PA</a:t>
            </a: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及び経済産業省に帰属し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6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危険な情報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そして飲むのをやめ、机の引き出しにしまい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EC71-3FFD-42CC-8600-3284B3FB245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危険な情報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一週間後、受験必勝薬を販売しているサイトをみたところ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357D-37D4-4A52-8F23-CEF5C9E3FE1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危険な情報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0711-AB35-4023-B945-F3323B630EF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危険な情報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ワタル君は法律で販売を禁止している薬を買っていたので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2C68-6962-4D7C-989B-FFB136B343C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9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危険な情報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AA84-E339-4D2D-9E59-F43CCC0C5CC0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危険な情報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A069-EC00-477D-B880-ADD5A3E0FA1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危険な情報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3547-1791-4060-B320-AE7F0B1ADAA4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危険な情報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15E9-985B-4F96-A42D-38B49E6FB687}" type="slidenum">
              <a:t>17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危険な情報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19280" y="6119640"/>
            <a:ext cx="72007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9080-FEEA-46CA-B63F-191E5E4257B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危険な情報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19280" y="6119640"/>
            <a:ext cx="720072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ワタル君はおもしろそうなページを探しています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C232-9D4E-4A63-883E-538A9DA50CF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危険な情報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CD4D-7915-4F47-B0D1-AC6F3A0E7C2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危険な情報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19280" y="6119640"/>
            <a:ext cx="720072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あるページに興味がわきました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A23F-FE74-4701-A319-BA71A5A1095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危険な情報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19280" y="6119640"/>
            <a:ext cx="720072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何やら受験必勝の薬、頭の回転が良くなるというキャッチフレーズに興味がわきました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1AC6-AA9E-418E-BA60-2252302588F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危険な情報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19280" y="6119640"/>
            <a:ext cx="720072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結局、購入することにしました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4EC5-F50B-44B4-BD9C-3B5C2BAC293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危険な情報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567C-2DD4-410D-AD44-C3547521361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危険な情報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19280" y="6119640"/>
            <a:ext cx="720072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でも説明書がついていないので心配になりました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61E2-522E-4432-B14E-BA711CE2AFA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6-03-22T04:22:48Z</dcterms:modified>
  <cp:revision>1</cp:revision>
  <dc:subject/>
  <dc:title/>
</cp:coreProperties>
</file>