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DEB2-ABBB-4D52-A58A-CD384854D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7943-A08E-477C-84CD-E6E396F0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CA4C-6563-4392-A3EB-1A7AB622E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99DD-BAAD-4F1B-9A7B-40FA769E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F8AC-82BC-4D0E-AE84-31195EE8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867A-8DB4-4EEF-AF34-B5EED951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F9D5-E009-4455-88F9-8984FF61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1C60-D399-42ED-97C0-CDB593EF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3D30-CB18-439D-A29A-31D6D262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E2F8-EE29-4D56-AE27-3D4D5639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231A-1FA6-4D3F-A657-8DBDE86A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462F-AE85-489D-87D0-669AEDDD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3851D-96B2-421C-8A40-1858132780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576108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確かな情報を発信しよう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確かな情報を発信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0749-7D2F-4049-8FB8-C6D8C3F9C1F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確かな情報を発信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0C73-A4BD-48FF-8EAA-364964CE2D6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確かな情報を発信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D8EC-33FC-4246-A5D1-B51443F0C47D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確かな情報を発信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7667-C3A2-4FD1-BE37-C4080E546EC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確かな情報を発信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33B4-FC82-41AE-871A-DC14C8CD345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確かな情報を発信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母さんたちは近所のスーパーについて、どこが安いとか、どこの品がよいとかの話しをしているのを、リカコさんは聞き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2707-048A-4CD4-88A7-5609C503F99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確かな情報を発信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19280" y="6119640"/>
            <a:ext cx="755964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そこで、そういうスーパーの比較をブログにのせることにし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こで、考えてみましょう□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ぜリカコさんは、この「スーパー」の情報をブログにのせようとしたのでしょうか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2274-1CF9-4E5D-834C-B2A2E86AA13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確かな情報を発信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5A57-F5B1-498C-8916-6F82BB4A10B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確かな情報を発信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その情報をありがたがってくれた人もいたけれど、、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C5EC-5B48-4DD6-A3A7-E9C6C59E4BF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確かな情報を発信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よく書かれなかったスーパーの経営者からメールがきて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3074-3A78-4C9A-BB8B-E079263341A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確かな情報を発信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84360" y="5940360"/>
            <a:ext cx="755964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メールの内容は抗議の文章でした。□□ここで考えてみましょう。□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のスーパーの人からのメールを見て、リカコさんは何を感じたであろう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リカコさんはこのスーパーのことを書くとしたら、どのように書けば良かったでしょうか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7BF8-0AF9-4455-8339-2CDB32D1A4B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5:29:11Z</dcterms:modified>
  <cp:revision>1</cp:revision>
  <dc:subject/>
  <dc:title/>
</cp:coreProperties>
</file>