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2B1-6A88-4916-B473-54AA9840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BC3-BA91-4C0A-A41F-C3A9DB07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F83-2E16-4E57-9737-6C04CB42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866-3DC2-4EB6-B6ED-C206E6CC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F4F-E1BE-405F-879E-DF25F0C1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5D5-3235-4458-A080-51186812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842-38DA-493F-B7C9-B5BCFC7A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A64-0755-4324-B99D-0C093E20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C94-793A-42A1-9138-2E5AA9E9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4D3-6FC5-441B-9A91-4A6BADDB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408-E336-4718-AFE2-E8D2FA16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A42-79BB-4629-9D4A-62E88D6C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7ABED-B6C3-414D-A3C4-E2416381EC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DB6-6BD3-4790-8A8E-3920D233A3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6300720"/>
            <a:ext cx="18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8BD-78FC-44A6-B12A-9447458D64C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B30-767F-47D0-9B3F-2F684F6FD49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356-9A2C-4B78-94F2-313D7B254FF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が家のコンピュータで新しいビデオについて調べようと考えています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91C-D28E-4887-9B14-A156908069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はサーチエンジンを使って「新作　ビデオ」のキーワードで検索しようとしています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219-208D-4446-834A-0A4630C436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4360" y="5940360"/>
            <a:ext cx="745344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検索の結果が表示されました。その中には、「秘密　アイドル映像」という大人向けの情報も含ま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。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検索画面にこのような大人向けの情報が撰ばれた場合には、タイチ君はどのようにすればよいの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8B0-22BB-45BC-8569-FBEB46D7B9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は、「秘密　アイドル映像」という言葉に興味を持っています。あたりをうかがって、自分一人なのを確かめ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367-D5ED-45A3-8275-1822EF1BEC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。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あなたは１８歳以上ですか？はい　いいえ」という表示が出てきた場合はどのようにすればよいの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1260360"/>
            <a:ext cx="576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ジット明細には、、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ED1-2199-4F41-9020-EE0CE66944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が表示されてしまいまし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004-812B-4D10-8DF5-70E5DC1062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。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ぜ、お父さんはタイチ君が大人向けのページを見ていたことがわかるの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A1F-3117-46EF-B8F0-8BAA38B649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父さんはブラウザ（ホームページ閲覧ソフト）の履歴を調べてタイチ君が見たのだと分かったの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813-38AB-4628-8901-A210F506FA9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06:26Z</dcterms:modified>
  <cp:revision>1</cp:revision>
  <dc:subject/>
  <dc:title/>
</cp:coreProperties>
</file>