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867-3182-42F2-B421-DEB6E2DA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8B8-AC88-4678-8847-F6178B91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A50-0A4E-4554-BED0-938965F6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CF6-FEE4-45B9-B8DA-C5FFFF4F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215-23CE-45F2-84E0-68102C29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502-47DD-41EE-960E-3307A752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26F-29C7-477F-AE5E-1BB2E4DE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E2B-C467-4031-9CD0-803E0561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750-EA42-4341-B491-6DADA78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9BD-470F-4765-BF28-BE6A9F91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8CF-D037-4D34-99D4-335B5D8E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A9C-67ED-4129-8A1A-994D044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113E8-A233-47FB-BFB5-DD5D6444A5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7610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営業妨害で訴えられるかも知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変なことになりました。あやまって、許してもらうしかなさそうです。すぐに文章も削除しなければいけません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抗議のメール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58F-98B1-4142-85C1-2D86C52A85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3B5-B1AF-45ED-B65B-5A34BB86C2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EFC-239A-46BC-BE90-9136DB10F0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14A-5C16-477A-9CC4-2AA7529A431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2603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で考えを発表する勉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7B9-669C-4A2F-AD18-CB804C108E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分でもブログを公開しようと考えました 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を自宅でも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16C-3874-4103-907B-8FBF643ABA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きあがり、多くの人が見てくれるかも知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が完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98E-2DE8-4081-AF50-4030364B4A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すがあまり見てくれる人はい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ましょう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どのような内容を書くと沢山の人が見る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238-04DA-43EA-A758-BEE688F5BC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見た人が面白がると思って、デタラメな内容の文章を書いてしまい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デタラメな内容を・・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F34-C98F-485A-95FB-2639BC58DF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、自分のブログをたくさんの人が見るように登録し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分のブログを宣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8C3-8B46-4E4E-B827-5526F0D7FA1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6119640"/>
            <a:ext cx="7559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腹が立ったからと，近所のラーメン屋のデマを書くことにつ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ームページ（ブログ）に掲載することによる影響の大きさについ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ームページ（ブログ）に公開することの意味につ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効果が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8B5-FE7A-481A-9692-E95CEA41EB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16D-9DBA-44F8-B76E-41BB29CBB9F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03:32Z</dcterms:modified>
  <cp:revision>1</cp:revision>
  <dc:subject/>
  <dc:title/>
</cp:coreProperties>
</file>