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F7C-37E0-4225-9ADD-F85512FF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1BE-4CD0-47DB-8676-010BD59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C5C-AB86-4A4A-BAAD-F22B5EB4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EFB-7E29-4248-8B84-06B56120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26B-4187-49A8-B093-CFF052A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93C-3FC6-4EE1-B5EF-82F1F6AF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769-133F-4843-BC0E-B9D7AA4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42E-1A1B-4548-8D95-7E76361A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B35-C764-4048-877F-F9CD35C0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89D-EA5F-4DE1-A625-52F6098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E5A-DAB0-47A2-861F-44B8337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49D-87C0-4809-9034-4ED947E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CEF96-0B12-45A4-BD20-D30C81CC84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C2A-3EFB-4671-A556-75E5EE4B7A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新しいパスワードでなぜかログインできません。入力ミスも無いので今度は試しに前のパスワードを入力し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363-B8F1-4FAD-ABF5-F20E4CF6AF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度はログインできましたが、ゲームのアイテムや通貨が無くなっ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605-F963-42D2-AA14-CA9E1F1D44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ヒロシ君には原因が分かりません。通貨やアイテムが誰かに取られてしまったの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58A-26C9-4D3D-90F3-543CAAA3EA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B1E-CE8E-4FA7-AA52-A7411966C9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FF6-451C-4C04-ADDA-CD0507025A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C8B-9B29-4C33-B11E-1F7EED803A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5CD-9A20-4DE1-9ADF-17012329AD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E6E-9C98-458F-8925-3E42E25B8E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4A3-E4EB-47C7-B93F-01662B3C2D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8C6-6898-4C03-8BC9-E2ADF45AE5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C85-1105-4F48-8C97-873A16A972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60720" y="6119640"/>
            <a:ext cx="57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の件名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トル）だけでは分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F88-7342-43FA-B335-AE37F88E42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「重要なお知らせ」とあるのでメールの内容を読んで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E36-AB12-40BC-B1D5-98B69B5681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ーバーコンピュータが不正侵入されたので、パスワードが他人に知られた可能性があるとの事、至急変更してください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43C-002B-4EA9-A362-0114A53136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本文にあるＵＲＬにアクセスしてパスワードを変更するように書かれているので、指示に従ってＵＲＬをクリック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FC1-3029-4020-8F5B-99DDDDD065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ずはログインＩＤとこれまで使用してきたパスワードを入力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053-5CC1-4E1E-AD85-52C6622AEE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新しいパスワードも入力しました。これで安心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E53-5CEB-47BA-B7E4-FCA8F45816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9:51Z</dcterms:modified>
  <cp:revision>2</cp:revision>
  <dc:subject/>
  <dc:title/>
</cp:coreProperties>
</file>