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8A2-EC8C-4DAF-ADEA-F8F1BC03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E57-7B3A-4A42-ACB5-E010697D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F57-2888-4175-93FB-E2B25282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AEB4-C041-4AC5-B46C-D006A514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40E-0D29-4C76-9301-7E5BED8E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3A0-1A3E-47C0-A8A8-F6B5CE80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DBE-C088-46F5-9E3F-F525BB30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985-9C59-4173-B95C-80FC4AC9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535-A69E-4760-81DB-ED74E656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2E4-0F90-4F7F-9C90-1BC03A22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950-FA98-4B9D-9B4E-EDEDDEC4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364-6D4F-4F87-A54A-70AC64FF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0FD05-FED9-430B-9A45-419FD9C69B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40072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60720" y="61214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先生の説明を聞いていなかったタイチ君は答えら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0D8-6694-49DA-9C90-84D5F6BAB5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0720" y="61214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先生から授業態度を注意され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380-E440-43B1-B140-205FF918268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F51-2E42-4624-BFB6-B100BE4F112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60720" y="61214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いにちネットゲームやパソコンをながい時間使っているタイチ君。お父さんは「ネット中毒」ではないかと心配し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C78-9BF5-4C33-9641-3416E023745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F0C-ED95-4665-85E5-90F7C887F9C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738-A5BB-4857-B946-94B6E527D9C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A91-5554-45AC-AEA1-E9037C1A74C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9B4-38B7-48F2-8036-CA270E0F450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0DB-F385-4BEE-A87C-36E7440E95A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831-4D81-4AF1-B9DA-1E50E2E665B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D38-FD69-43A3-8A4E-D25ADF40846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60720" y="6119640"/>
            <a:ext cx="5940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ンタ君は顔色の悪いタイチ君が心配にな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6BF-491D-455C-9851-3EBF924E721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60720" y="6119640"/>
            <a:ext cx="5940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インターネットカフェの前を通りかか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B0B-EB1E-40FE-9893-9A3A2AD704E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60720" y="6119640"/>
            <a:ext cx="5940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塾で勉強よりゲームを選んでしま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863-C1B0-4696-AB87-DFF61CD0CED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60720" y="61196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して、家に帰ってもゲーム。ゲームをよりおもしろくするにはアイテムが必要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190-D9D0-4F8F-A5F5-B0AF1E7B8B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FD5-9CA4-4158-BAB2-3A5B1158C4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60720" y="61214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つもゲームに夢中になっているタイチ君を心配しているお母さ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376-801D-467B-B9E6-816F2FD10FF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211-3150-4186-96A8-BFDF2D28C84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12:27Z</dcterms:modified>
  <cp:revision>1</cp:revision>
  <dc:subject/>
  <dc:title/>
</cp:coreProperties>
</file>