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0248E-2278-48E2-8866-38F1161E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8696-2C9B-420D-8C06-C442B598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0E75-B533-49C9-ACD6-7C55C41A2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9A8C4-B7AF-42BA-85E3-35BF4FB75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8C21C-D7BB-42BC-9694-D7337D7D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ED55-4862-40FE-AB37-0DFD7EDA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9D58-5495-4385-AE3B-7B3EA178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B3B80-17AF-4EB3-A2E2-493132077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D8219-78D8-44DC-A3B5-9C0F8C7E0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792A-1AE7-4B20-8F62-B2CC818A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A637-2E0F-47C2-9123-1B04B264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717C-50A4-4E99-93F9-2D77436A6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C9A6EE-4FE1-475A-B618-4C345BCE6D7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94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8.</a:t>
            </a:r>
            <a:r>
              <a:rPr b="1" lang="zh-CN" sz="3600" spc="-1" strike="noStrike">
                <a:solidFill>
                  <a:srgbClr val="000000"/>
                </a:solidFill>
                <a:latin typeface="ＭＳ ゴシック"/>
                <a:ea typeface="ＭＳ ゴシック"/>
              </a:rPr>
              <a:t>コンピュータウイルスに　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9F61808-CCF7-4023-B204-DA604D9EF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7EAF4D8-A830-47D2-84DA-5D0C99D76E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C50D2DE-718C-4C55-8472-978244C8C321}"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D589494-AC9E-40A0-B43C-BE59F4C6642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436840" y="1690560"/>
            <a:ext cx="5229360" cy="4191120"/>
          </a:xfrm>
          <a:prstGeom prst="rect">
            <a:avLst/>
          </a:prstGeom>
          <a:ln w="0">
            <a:noFill/>
          </a:ln>
        </p:spPr>
      </p:pic>
      <p:sp>
        <p:nvSpPr>
          <p:cNvPr id="4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5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１通、メールを受信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AA8F87-9CA0-47EC-ADDA-7BCA47D53B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57"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知らない人からのメールで、添付ファイルがありました。</a:t>
            </a:r>
            <a:br>
              <a:rPr sz="1800"/>
            </a:br>
            <a:r>
              <a:rPr b="0" lang="zh-CN" sz="1800" spc="-1" strike="noStrike">
                <a:solidFill>
                  <a:srgbClr val="000000"/>
                </a:solidFill>
                <a:latin typeface="ＭＳ ゴシック"/>
                <a:ea typeface="ＭＳ ゴシック"/>
              </a:rPr>
              <a:t>何も気にせずに添付ファイルを開いてみたとこ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E044FF-15E9-4952-9640-4BCC4AC02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今まで見たことのない花火のアニメーションが実行され、おもしろいので見入ってしまいました。</a:t>
            </a:r>
            <a:endParaRPr b="0" lang="en-US" sz="1800" spc="-1" strike="noStrike">
              <a:solidFill>
                <a:srgbClr val="000000"/>
              </a:solidFill>
              <a:latin typeface="Arial"/>
            </a:endParaRPr>
          </a:p>
        </p:txBody>
      </p:sp>
      <p:sp>
        <p:nvSpPr>
          <p:cNvPr id="63" name=""/>
          <p:cNvSpPr/>
          <p:nvPr/>
        </p:nvSpPr>
        <p:spPr>
          <a:xfrm>
            <a:off x="1979640" y="1260360"/>
            <a:ext cx="414000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添付ファイルは花火のプログラム？</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DF1569-0497-4D16-9134-53B8929236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68" name=""/>
          <p:cNvSpPr/>
          <p:nvPr/>
        </p:nvSpPr>
        <p:spPr>
          <a:xfrm>
            <a:off x="1619280" y="6119640"/>
            <a:ext cx="7380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友人にメールを出さなければいけないことを思い出し、急いでメールを書いて出したところ・・・</a:t>
            </a:r>
            <a:endParaRPr b="0" lang="en-US" sz="1800" spc="-1" strike="noStrike">
              <a:solidFill>
                <a:srgbClr val="000000"/>
              </a:solidFill>
              <a:latin typeface="Arial"/>
            </a:endParaRPr>
          </a:p>
        </p:txBody>
      </p:sp>
      <p:sp>
        <p:nvSpPr>
          <p:cNvPr id="69" name=""/>
          <p:cNvSpPr/>
          <p:nvPr/>
        </p:nvSpPr>
        <p:spPr>
          <a:xfrm>
            <a:off x="1979640" y="1260360"/>
            <a:ext cx="287964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友達にメー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93DE945-000B-44EA-9EF7-016204E15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6840" y="1690560"/>
            <a:ext cx="5229360" cy="4191120"/>
          </a:xfrm>
          <a:prstGeom prst="rect">
            <a:avLst/>
          </a:prstGeom>
          <a:ln w="0">
            <a:noFill/>
          </a:ln>
        </p:spPr>
      </p:pic>
      <p:sp>
        <p:nvSpPr>
          <p:cNvPr id="7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7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次の日、メールを受取った友人からいきなり「ウィルス送っただろ！」とどなられました。</a:t>
            </a:r>
            <a:endParaRPr b="0" lang="en-US" sz="1800" spc="-1" strike="noStrike">
              <a:solidFill>
                <a:srgbClr val="000000"/>
              </a:solidFill>
              <a:latin typeface="Arial"/>
            </a:endParaRPr>
          </a:p>
        </p:txBody>
      </p:sp>
      <p:sp>
        <p:nvSpPr>
          <p:cNvPr id="75" name=""/>
          <p:cNvSpPr/>
          <p:nvPr/>
        </p:nvSpPr>
        <p:spPr>
          <a:xfrm>
            <a:off x="1979640" y="1260360"/>
            <a:ext cx="287964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ウイルス送っただ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BCEC67-03E4-493A-8762-0C1E9BB91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436840" y="1690560"/>
            <a:ext cx="5229360" cy="4191120"/>
          </a:xfrm>
          <a:prstGeom prst="rect">
            <a:avLst/>
          </a:prstGeom>
          <a:ln w="0">
            <a:noFill/>
          </a:ln>
        </p:spPr>
      </p:pic>
      <p:sp>
        <p:nvSpPr>
          <p:cNvPr id="7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7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8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ウィルス付き添付ファイルのせいで友達のパソコンが動かなくなってしまったことを聞か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5D4E3A8-929F-40AC-8BCC-FA7F1F275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87620BE-20C3-4C1D-9C50-E9F89DA64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30:46Z</dcterms:modified>
  <cp:revision>1</cp:revision>
  <dc:subject/>
  <dc:title/>
</cp:coreProperties>
</file>