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DF31E2-922E-4487-95D5-FF031FB19284}"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2CC2F-D474-45A1-BDA9-81F9821F8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D9122-7E6C-409A-813E-F1F2D0487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B1486-C478-41D3-AC43-05C204E4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6EF94-BF0B-4372-95D9-B6DFFC59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B50A-D917-4598-A50F-40A882F02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22FF-A415-4196-835F-C2A053C8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1F1B7-C596-41EF-B41C-1F142CDFE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7209F-04A7-4F20-892C-C47C59DA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6A8DF-9BD4-4D3F-A3F3-2722D44E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B668-8B44-4C51-A63D-2E9994C1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9636-5BD0-4482-A7A6-B8605151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7AB9-DEB9-4656-8B02-45A659A8A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7761A1-708C-4975-9EE5-6577BBA8BFD6}"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581800" cy="175716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3.</a:t>
            </a:r>
            <a:r>
              <a:rPr b="1" lang="zh-CN" sz="3600" spc="-1" strike="noStrike">
                <a:solidFill>
                  <a:srgbClr val="000000"/>
                </a:solidFill>
                <a:latin typeface="ＭＳ ゴシック"/>
                <a:ea typeface="ＭＳ ゴシック"/>
              </a:rPr>
              <a:t>携帯電話をなくしたら</a:t>
            </a:r>
            <a:endParaRPr b="0" lang="en-US" sz="3600" spc="-1" strike="noStrike">
              <a:solidFill>
                <a:srgbClr val="000000"/>
              </a:solidFill>
              <a:latin typeface="Arial"/>
            </a:endParaRPr>
          </a:p>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利用停止。でも･･･</a:t>
            </a: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0" name="" descr=""/>
          <p:cNvPicPr/>
          <p:nvPr/>
        </p:nvPicPr>
        <p:blipFill>
          <a:blip r:embed="rId1"/>
          <a:stretch/>
        </p:blipFill>
        <p:spPr>
          <a:xfrm>
            <a:off x="2436840" y="1690560"/>
            <a:ext cx="5229360" cy="4191120"/>
          </a:xfrm>
          <a:prstGeom prst="rect">
            <a:avLst/>
          </a:prstGeom>
          <a:ln w="0">
            <a:noFill/>
          </a:ln>
        </p:spPr>
      </p:pic>
      <p:sp>
        <p:nvSpPr>
          <p:cNvPr id="9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C3D6100-6DC2-46EC-BAB6-D1B4B1399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9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0A1DEA9-36CA-4641-BC01-EA7733AAB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0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31CA770-2AF7-4B17-B792-73F1563BC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102" name="" descr=""/>
          <p:cNvPicPr/>
          <p:nvPr/>
        </p:nvPicPr>
        <p:blipFill>
          <a:blip r:embed="rId1"/>
          <a:stretch/>
        </p:blipFill>
        <p:spPr>
          <a:xfrm>
            <a:off x="2436840" y="1690560"/>
            <a:ext cx="5229360" cy="4191120"/>
          </a:xfrm>
          <a:prstGeom prst="rect">
            <a:avLst/>
          </a:prstGeom>
          <a:ln w="0">
            <a:noFill/>
          </a:ln>
        </p:spPr>
      </p:pic>
      <p:sp>
        <p:nvSpPr>
          <p:cNvPr id="10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0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BBA70E8-545A-49F2-9A58-44320B94D2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106" name="" descr=""/>
          <p:cNvPicPr/>
          <p:nvPr/>
        </p:nvPicPr>
        <p:blipFill>
          <a:blip r:embed="rId1"/>
          <a:stretch/>
        </p:blipFill>
        <p:spPr>
          <a:xfrm>
            <a:off x="2436840" y="1690560"/>
            <a:ext cx="5229360" cy="4191120"/>
          </a:xfrm>
          <a:prstGeom prst="rect">
            <a:avLst/>
          </a:prstGeom>
          <a:ln w="0">
            <a:noFill/>
          </a:ln>
        </p:spPr>
      </p:pic>
      <p:sp>
        <p:nvSpPr>
          <p:cNvPr id="10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10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BF3D98C-C5C9-4C6C-B817-2831EBB7A211}"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876090D-5DCB-4E9B-84CD-8415A169029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アユミさんはバックから自宅の鍵を出そうとした時に携帯電話の無いことに気がつき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落としたか、どこかに置き忘れたのかも知れませ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00DDCC-DA2D-4753-A0BD-70C1EEE0E5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コンビニと本やさんに戻って探しましたが見つかりませ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AB62C3-0426-43FC-8D54-E40A51F7BF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両親に携帯電話をなくしたこと、探したが見つからないことを話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2BDED0-B773-4BB1-B3B3-481BC2293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お母さんに電話会社に利用停止を連絡してもらい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お父さんからは警察に拾得物の届けがあるか聞いてみるように言わ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DD9966-872F-4F09-B0C4-19FA2573B7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FACC6B1-4985-464D-A50B-8AA4A978B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アユミさんは友だちの携帯電話に変な電話やメールがくる原因が自分の携帯電話のアドレス帳からもれたのではないかと心配にな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690EC9-DC8C-4EC5-AACD-EE9C3F542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3386D7E-936A-48F9-8872-125B2197F2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4:51Z</dcterms:modified>
  <cp:revision>2</cp:revision>
  <dc:subject/>
  <dc:title/>
</cp:coreProperties>
</file>