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FB8E3-13DB-44FF-9DF5-E0C851078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49D5-DE58-42A5-B6D0-0C965666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6758F-977D-4290-8705-1CC45162C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22F4-B211-49CD-AAF9-6E61DF558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53D28-AED1-486B-AB78-34F252CEC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FDC9-1BFD-41D5-A87E-E2227DB1B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4CFB0-EFBA-4266-85C2-B353E09E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46FE-234E-41DD-8C2A-DA10F694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012F3-BE3A-4859-8676-1D0DB7B2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B9642-3AC6-49CB-AD83-34895E0CE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CEF7-6543-4D59-8F1B-D4A5E072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151E-C0C2-4F23-BF86-FB1F12CCA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AD12B-0F54-4060-8419-F015C226CC68}"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6.</a:t>
            </a:r>
            <a:r>
              <a:rPr b="1" lang="zh-CN" sz="3600" spc="-1" strike="noStrike">
                <a:solidFill>
                  <a:srgbClr val="000000"/>
                </a:solidFill>
                <a:latin typeface="ＭＳ ゴシック"/>
                <a:ea typeface="ＭＳ ゴシック"/>
              </a:rPr>
              <a:t>見知らぬ人との約束？</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36840" y="1690560"/>
            <a:ext cx="5229360" cy="4191120"/>
          </a:xfrm>
          <a:prstGeom prst="rect">
            <a:avLst/>
          </a:prstGeom>
          <a:ln w="0">
            <a:noFill/>
          </a:ln>
        </p:spPr>
      </p:pic>
      <p:sp>
        <p:nvSpPr>
          <p:cNvPr id="8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87"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男の子が現れないので、不安になってきたケンタ君。「どうして住所や電話番号を聞いてきたんだろう？」</a:t>
            </a:r>
            <a:br>
              <a:rPr sz="1800"/>
            </a:br>
            <a:r>
              <a:rPr b="0" lang="en-US"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うしてケンタ君は、不安になったのでしょう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51585F-3D80-4D7D-A2E9-C2177A7C5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744362F-1C9C-4528-A5AA-901FC69D10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1381C9B-5A7E-4C0A-A915-0C64F163F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9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8531910-FE16-4EC5-91C1-D1891CDF1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36840" y="1690560"/>
            <a:ext cx="5229360" cy="4191120"/>
          </a:xfrm>
          <a:prstGeom prst="rect">
            <a:avLst/>
          </a:prstGeom>
          <a:ln w="0">
            <a:noFill/>
          </a:ln>
        </p:spPr>
      </p:pic>
      <p:sp>
        <p:nvSpPr>
          <p:cNvPr id="10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3</a:t>
            </a:r>
            <a:endParaRPr b="0" lang="en-US" sz="1600" spc="-1" strike="noStrike">
              <a:solidFill>
                <a:srgbClr val="000000"/>
              </a:solidFill>
              <a:latin typeface="Arial"/>
            </a:endParaRPr>
          </a:p>
        </p:txBody>
      </p:sp>
      <p:sp>
        <p:nvSpPr>
          <p:cNvPr id="10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18E78FA-10E6-4C83-BBEB-95A033A94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4</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DFEACBE-8FE4-4140-8795-C8AF6CA790D9}"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とケンタ君はチャット友達。新作ゲームのことをチャットで会話してい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B2EBE6-C88D-4927-BEEC-4DD09C18F71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二人がチャットをしているときに、突然、中学生と名乗る男の子がチャットに入り込んでき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0E84C7-75D9-49CA-ACD6-9DA7E94C0E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8200CE0-8B69-4747-BF50-9FCD9E3F3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ケンタ君が「どこの中学？」と訪ねると、「となりの西中学校の生徒だ。」という男の子。</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06EBAC-47CB-4080-B617-6A82FB374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36840" y="1690560"/>
            <a:ext cx="5229360" cy="4191120"/>
          </a:xfrm>
          <a:prstGeom prst="rect">
            <a:avLst/>
          </a:prstGeom>
          <a:ln w="0">
            <a:noFill/>
          </a:ln>
        </p:spPr>
      </p:pic>
      <p:sp>
        <p:nvSpPr>
          <p:cNvPr id="6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4</a:t>
            </a:r>
            <a:endParaRPr b="0" lang="en-US" sz="1600" spc="-1" strike="noStrike">
              <a:solidFill>
                <a:srgbClr val="000000"/>
              </a:solidFill>
              <a:latin typeface="Arial"/>
            </a:endParaRPr>
          </a:p>
        </p:txBody>
      </p:sp>
      <p:sp>
        <p:nvSpPr>
          <p:cNvPr id="6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6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中学生は自分の持っている最新式のゲーム機２台のうち１台をくれるという。ゲーム機がほしかったケンタ君。その男の子に「ちょうだい。」とチャット上で話をす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1CAB95-CE0D-40C0-8F74-6264AD1998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うれしくて自分の住所・氏名・電話番号を教えたケンタ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45EBDF-9DC7-486D-AC26-AF5210E5C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7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ゲーム機を渡してくれる日時と場所を確認して会うことになっ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FFB1C0D-02FE-43B9-82D8-230B2C559E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8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ケンタ君は、指定された日時に待ち合わせ場所の駅前のコンビニで男の子を待ったが、約束の時間を過ぎても、、、。</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3F023D-3965-442B-A5B9-E98D5409E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6:59Z</dcterms:modified>
  <cp:revision>2</cp:revision>
  <dc:subject/>
  <dc:title/>
</cp:coreProperties>
</file>