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7720" y="812880"/>
            <a:ext cx="53420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640" y="50763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524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0E78A-4E5A-48E6-B353-3D06985848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A4E-C75F-44DA-AF2C-B4F92AEA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235-7726-4A45-9518-4BB743AE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262-F925-420E-9F78-56429357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E59-B791-403F-A3B5-F56A80B8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740-838E-46A0-8CF2-5724A3AA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C4B-61A4-4C26-9C0F-74A78AFE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8AD-1CC4-461D-B098-1B5882F0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4A6-E4E0-4B50-9AF2-DF777D9E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258-E975-4F75-9E27-6769D3D4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4F9-57DF-48C1-A676-E943D8D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572-F617-4F3A-955D-0E8085A2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9BA-A3C0-4986-ADB0-24B1874E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F2932-C28F-41C9-98BF-0738D2F470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9280" y="2700360"/>
            <a:ext cx="6480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　利用方法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9280" y="6983280"/>
            <a:ext cx="5400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093-155A-4553-A06E-EC5445FAC4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170-8D34-4058-B709-E244749DB3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6119640"/>
            <a:ext cx="7200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信頼できる人かどうか判断することも大事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B93-D105-4C41-BE6D-A9DBA114E5F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E6B-C002-470F-967A-A258CA699C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34B-8DBB-46F3-B396-F7CA945699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63A-E448-4176-85E5-FC5F59ECFE4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968-6745-49B2-BB6B-DFE531701BD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501-7362-42B2-89F8-BD66B130C33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0CD-AE22-4BD7-89A6-C4611A99DBA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F26-CDF9-405B-8901-CE54B6447C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208-EFB0-4FF0-8ED3-7BEB8ADF436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安く買えるかどうかオークションサイトをお兄さんに調べてもら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BBC-7632-4676-8B65-6966D967D7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6119640"/>
            <a:ext cx="7200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見つか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1DD-CC61-43DE-9303-1A429E77B1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すぐに買えるかどうかは分かりません。お兄さんにオークションの仕組みを教えてもら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A15-2FF3-452A-972F-F9A6EEF897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EE2-F7E3-48E7-9782-49BA9D1F79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支払い方法もいろいろ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F04-96CE-4D4C-B7CA-A87DD8DC66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6119640"/>
            <a:ext cx="7200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商品の受け渡しが安全に行える仕組みも教えてもら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8C0-EAA6-4694-9E68-66F60DE7CC2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C0C-D126-432D-996C-8B78773D574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