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2A8-372A-41CD-9F85-3FBCF824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FEF-D917-4627-9E63-067BEDFB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E05-DC65-4282-B2B7-FD0F1EF0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AF0-D29A-4831-BA89-BE4965F1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B57-1A44-4C12-AE59-DFBB6DB5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728-E8A6-473C-ABBF-3D72DE06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EB8-98C0-4E39-B83F-E029F42C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2C1-7295-4EED-A684-2A64EE86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AFA-B779-4225-9C02-0CAFA3D0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85B-DB90-4D0F-896C-EE5EC24B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A5A-A3EA-4A86-B1B1-BAA2412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2CE-186D-40F2-AAF1-1B2EFE6A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ECE37-8ACA-4AFE-A0A4-C5483F6433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94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C9A-4EDF-4876-BB52-27BAF1D8A0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しかし、翌日にはもっとたくさんのメールが届い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833-18D2-4CB8-883E-DF63562E887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6119640"/>
            <a:ext cx="72007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「送信しないでください」というメールを送ったのに、どうしてメールは止まらなかったのでしょうか？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返信したことにより、どういう危険が生じる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3B7-75B0-4B51-869B-D945CB4BA8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A81-B6C8-45EC-A668-225A4250CB4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2A7-7642-491B-AF1E-586D00C4CC8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EE5-B35B-4B33-92F5-C54CEEFEDAB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B9E-F466-419F-94BC-64F085791E8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750-9BF6-44B9-BCE0-52FAB63213F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知らないところから、毎日、メールが届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EC6-72BB-4215-86C8-2DC9C08422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欲しくもない商品を紹介するメール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CBB-5E1E-4E68-88DD-A98A8FAC22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キラ君は毎日このようなメールが届き、うんざりし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88C-5A84-4390-9D95-9C487A28F3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119640"/>
            <a:ext cx="74534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ン君は無視するのが一番だとアドバイス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も、メールには情報が不要な人は返送するように書か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0AF-017A-4030-A291-D405FAB51E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5978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キラ君はもう送らないで欲しいとメールを返送すること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D99-5A94-4334-91E0-BA9D3A0516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CFE-D13E-414B-86FA-849B87C9634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送らないで欲しいというメールを送信したにもかかわらず同じようなメールが届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F2D-93D2-4DE6-96C1-E57030C5B1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20:34Z</dcterms:modified>
  <cp:revision>1</cp:revision>
  <dc:subject/>
  <dc:title/>
</cp:coreProperties>
</file>