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FF4B-A3A2-420B-8946-42AF895F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D14-6DE3-42A5-B6B1-29C5F82D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8CF-A7AD-4B15-9A8E-3FB21FE7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7E9-950C-41D4-87E4-8A555128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174-CCC1-4389-9A91-BB20B156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F10-52A9-4548-9071-B12FA645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0E4-9F2A-4D17-993E-D3083008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B1F-FD36-4B8B-AE25-C69D48B0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1EA-1F66-4D8B-AE97-D23F9F45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DCA-CE09-424C-B25E-6014C50E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4BB-8B71-42FB-8348-DC650082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CF2-B804-46D7-A835-48A01EFF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55C28-5CFA-48C5-A214-9E3ED53311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5800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兄さんはタイチ君のしたことが良くないことで、法律でも禁止されていることを教えてあげ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AE3-3001-4DA3-AAFB-34BF34CA95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C8F-81E3-41C9-A752-E0A8C53F324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C42-B9BE-4020-BD63-5E6DBE5F532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423-8A64-47CB-B4ED-B0A498E5D82D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イチ君たちは新作ゲームソフトで遊んで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68D-62E4-4B20-907D-3850D328557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5940360"/>
            <a:ext cx="8460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イチ君は「このソフト貸してくれない」と言っていますが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ハルオ君の家で買ったソフトを借りることはできるの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ハルオ君はだまっていますが、こんな時はなんて言えばいいのでしょうか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B60-655D-4900-84AE-42428927555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ハルオ君は貸してあげることに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347-3C1D-41E6-8935-DC7B1B89E9A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簡単にインストールできるソフトも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8D1-412B-47EB-AD7A-9F12626C07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イチ君は大満足でソフトを楽しんでいます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も、本当にそれでいいのでしょうか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E8D-D6D5-4872-88E5-EFFEBE268E9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ゲームソフトをインストールしたことをお兄さんに話します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DD1C-CE41-4FAB-8C7D-93F8038837A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タイチ君は悪いことをしたとは思っていないので、借りてきてインストールしたことを話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BE2-EF5E-408A-AE18-0F11491019F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FBB-B4AA-4E43-937B-E560BAB98DE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57:18Z</dcterms:modified>
  <cp:revision>1</cp:revision>
  <dc:subject/>
  <dc:title/>
</cp:coreProperties>
</file>