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74EE-79E3-47E6-83F3-9216A170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4C89-4297-4FCD-977D-DF32E74C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E4D3-758D-49BB-ADD0-922090201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25E1-5FC2-4862-86D3-0AA64D15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A218-8D95-4232-A255-FAE1F18F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2E54-0E41-4C02-80C2-F972DB2F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FFBD-EF42-4C27-8E9A-33E5BD1F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9877-7E93-484C-9A3F-40B50DDD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98E7-7F86-4D70-AA90-B7C3241E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E066-4F52-4572-BD86-312B4488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72E3-DA28-4DFF-B9C4-1EE74916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AB44-65C2-4B37-972C-FC1E1967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FC427-B160-40D6-B8C7-9DBD183B54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648036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7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ショッピングの活用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ショッピングの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FF8F-F131-4675-816A-FDB9FC0668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ショッピングの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689D-E9EE-46A8-8DB7-5F9278A0D37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ショッピングの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1F47-1C30-42FF-BC00-9D135CABDC0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ショッピングの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606D-C97A-4F58-9889-9CBC501CF2C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ショッピングの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E1AF-FAD5-4A1C-9FF2-C261AF00FC3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ショッピングの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D684-38D9-4EC3-B380-89470A49EC7E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ショッピングの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C950-2D7B-4688-8757-3F2E400CF2B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ショッピングの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FC1E-1193-4DDD-A020-9A9A3FED618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ショッピングの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7D3C-9E48-4DA3-8D5F-823EA8BCE6E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ショッピングの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ＳＳＬで暗号化されたショッピングサイトなので、情報が漏れないので安心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C244-0F19-4F7D-9D6F-DD319A1C924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ショッピングの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929D-DD1E-44B2-9DC7-809ABB61A27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ショッピングの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7BAF-1F2B-4749-8F63-1BF94E06BA8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ショッピングの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ケンイチ君は知っていることをお父さんに説明し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F0B5-7607-4BE4-B91C-C751F5C983A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ショッピングの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04FF-3B53-4D42-A20B-E18AF7490A1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2:55:53Z</dcterms:modified>
  <cp:revision>2</cp:revision>
  <dc:subject/>
  <dc:title/>
</cp:coreProperties>
</file>