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ECC-08D1-4AB2-AD0B-8D648CEC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7C1-8117-42F6-A7DC-27C4499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6DE-6F7E-4CD2-8DA1-8AD83262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E4D-8C16-492E-9E5F-2EBE5DC8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C1C-161F-4462-820D-D9EDAB0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E05-E6CC-4F1D-9424-11F74F56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2BC-7DB0-4C5A-B9A9-04B400C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600-0F62-49F7-8C14-A06CD947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51C-0092-4112-A974-BD8DD5A3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61C-F774-4ACA-8690-19821F3C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16E-3761-47C6-A735-7CA0181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44C-3308-4C11-A75B-A6342606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27CE-ADED-4DB1-BAE4-38E97E4E98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　要注意</a:t>
            </a:r>
            <a:br>
              <a:rPr sz="3600"/>
            </a:b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917-295F-4A62-A064-A3DDDCEB1D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5CE-B999-49CE-AB01-DD63EEE3084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FE1-FA34-4B01-A9AB-9EEC2D9037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タ君はパソコンやインターネットを使って楽しんで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A40-0482-4BCF-A3CB-68078E6164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00" y="6119640"/>
            <a:ext cx="738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タ君はインターネット上でファイル共有ソフト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DC7-B38E-4B64-A088-F5FDB3F4B0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興味を持ってさっそくインストー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FB8-1219-4643-A789-22F7A1F721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81C-DC78-4C14-94F4-DF9414652B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データ共有している他の人のファイルが見れるので欲しいデータをダウンロード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7F9-5F48-47FB-B43B-63CD0FB640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いろな人のパソコンに登録されている音楽データなどをダウンロードする行為について、どのように考えました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46C-403E-4B49-8813-725CEC7343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A66-B91A-4FD2-9B42-E9FD62A904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MOTO</cp:lastModifiedBy>
  <dcterms:modified xsi:type="dcterms:W3CDTF">2006-03-22T02:29:51Z</dcterms:modified>
  <cp:revision>4</cp:revision>
  <dc:subject/>
  <dc:title/>
</cp:coreProperties>
</file>