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018AC-6466-4A3C-B181-897B7F558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0BCDB-A4D4-46F7-B4E5-42710DEE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86304-956B-4EAF-9389-F640EE151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82584-12D8-4D6A-9F87-2E56DA970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C236-6471-48B8-84AE-AF2373AB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3ADB5-4ADB-4253-A004-D6BAACFD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57FA-EC25-48F5-B138-721BFFBC9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0398-A39C-4F66-AB02-3714526B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3D79-C35A-45C8-94A3-2DD6CB7F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607C-2710-4FE2-BB77-82037DD9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6364-7D46-4E1B-8AA2-6BD2A239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60BB-2F66-46A5-B143-292F7EDF2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1E2687-CC8C-4957-A17F-05DC94B3AC87}"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76108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8.</a:t>
            </a:r>
            <a:r>
              <a:rPr b="1" lang="zh-CN" sz="3600" spc="-1" strike="noStrike">
                <a:solidFill>
                  <a:srgbClr val="000000"/>
                </a:solidFill>
                <a:latin typeface="ＭＳ ゴシック"/>
                <a:ea typeface="ＭＳ ゴシック"/>
              </a:rPr>
              <a:t>おもしろ半分では無責任</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自分のウェブページをもっとおもしろくして、多くの人に見てもらいたいのです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C0394B-9AA1-4021-B5EF-6ABF7CC20AC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であ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29AB89B-7724-431C-A832-90AEF57767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58" name=""/>
          <p:cNvSpPr/>
          <p:nvPr/>
        </p:nvSpPr>
        <p:spPr>
          <a:xfrm>
            <a:off x="1584360" y="5940360"/>
            <a:ext cx="7200720" cy="1187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ラスのひとのことをあれこれとおもしろおかしく書き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どういう気持ちで学校のことをいろいろ書いてみようと思ったのか？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なぜそれが「面白い」と思ったの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1A4C6A-DA74-4F3A-A77E-38BFA385E6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63"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それを見た本人はみなの前でカオルさんを非難し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のことを書かれた友達の気持ちを想像してみよ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もしあなたがこういうことをホームページで書かれたら、どういう気持ちを持つだろうか？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89063A-FAE4-4A50-9605-3643337A64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68"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先生からも注意され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先生から注意されてどんな気持ちだっただろうか？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学校のことでおもしろいこと」をかくとしたら、何を書いたら良かったの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3FC76E-BBA8-4059-9C6D-09C97FF36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8.</a:t>
            </a:r>
            <a:r>
              <a:rPr b="1" lang="en-GB"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B83379E-2CF6-4BBD-B6EF-E35CC32EC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8.</a:t>
            </a:r>
            <a:r>
              <a:rPr b="1" lang="en-GB"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00EE193-4680-43F3-B190-9C9A84BF20B4}"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49:12Z</dcterms:modified>
  <cp:revision>1</cp:revision>
  <dc:subject/>
  <dc:title/>
</cp:coreProperties>
</file>