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EF6-2AF0-48B7-BAD8-FA245C30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F87-28A2-4790-B944-31114DF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A87-A17A-4185-88DF-CA4C9AA9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D02-315A-4625-A116-C1BEFFAA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323-0239-4D24-8B2A-D2B941F1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48F-5457-4ED3-A5E0-BC3F3396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005-0B58-45EF-8BA1-442F098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5CF-8210-4567-960D-7680A79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60C-FC30-4AFE-BD1B-0AFF0B9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195-51A8-41DA-AF24-9AD999F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6F2-3F4F-47A1-ACFA-D802C0E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A59-4918-4623-BE5E-9758C30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95C6-4061-4004-8B6C-C71CEA933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9C1-810C-47EC-A15A-1C91FA6FFB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716-FB23-4B12-8D41-D373110AD5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F29-A3EF-456E-8AB7-73FC444B48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319-4C5A-4C56-BE8F-D0AF158ABB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713-CF1F-4493-A803-F1D5E6B89A02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5A4-4FF4-4C94-AC06-0E94E05B1F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欲しかったゲーム機を売っているサイトが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958-56B2-4277-967D-447CAB2E10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購入することにしました。支払い方法は商品代引き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B3A-5DEA-4A2B-B40C-83FF1156DC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52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注文した商品が届いたので、配達のおじさんに代金を支払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620-F176-49DC-82D0-8E289334B4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ーブルを接続し、さっそくゲームは始めようとしましたが、どうしたことかテレビにゲーム画面が出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CC5-AAB9-4D26-ACA6-C9CE85CA09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、売った人に連絡をしようと思い、ホームページで連絡先を確認しようとしたが、ホームページが無くなっ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ロバイダーに連絡し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649-0B4E-475A-8FC8-893983D2A4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プロバイダーは相手の連絡先を教えてく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D2C-9C16-4B09-B59B-AEE57C938D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802-6B96-4987-918B-5464D162E9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32:46Z</dcterms:modified>
  <cp:revision>1</cp:revision>
  <dc:subject/>
  <dc:title/>
</cp:coreProperties>
</file>