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D27-9A96-46A8-A6D2-3C920C02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2F3-0E5C-4174-A055-F14417F7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F9D-BD1F-46B1-8D1B-DB897C32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CBA-4AE5-42FF-B0DF-3278DCEA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225-3E19-407B-9E26-51812CCC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3BD-3473-49B4-8C86-C1A60098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693-1A56-4B1D-A2C7-6F510EA3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3EB-DD07-4988-821C-B00D505A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8AB-51AA-4E1B-9975-619A3F13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980-6B66-4E59-B91E-BD1FDDD7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6A0-4A26-4EFC-8CA8-F784882F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CD7-C339-4B59-992A-F5FEEB22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B7DD5-DE9E-4187-B3B9-2797150B0D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</a:t>
            </a:r>
            <a:r>
              <a:rPr b="1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しよう</a:t>
            </a:r>
            <a:br>
              <a:rPr sz="3600"/>
            </a:br>
            <a:br>
              <a:rPr sz="3600"/>
            </a:br>
            <a:r>
              <a:rPr b="1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ウタ君は、ほかの中学校のサイトに「凹凸中学校の修学旅行」の記録があることを見つけたのです。ここには自分がほしい情報がたくさんあ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らに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7E9-84FD-49BF-997D-AD17621110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ヤカさんは、「金閣寺」の情報があるサイト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サイトも発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87A-5CDE-4284-8A08-47B82D424B0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ウタ君は、自分が見つけた「ほかの中学校の修学旅行の記録」とサヤカさんが、見つけた「金閣寺」のことをまとめることで、レポートが出せると考え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1260360"/>
            <a:ext cx="486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の２つの情報があれば事前学習はＯＫ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202-BF93-452A-B9E0-954685FE126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ウタ君がまとめたレポートは、２つのページにあった内容をコピーして、張り合わせたものです。たくさんの内容が書いてありました。しかし、、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260360"/>
            <a:ext cx="486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先生からほめられました。が・・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19A-8114-4BD9-8FDF-8A17FE45077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見ましょ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ページの情報を集め、発表していくのに気をつけなければならないことは何で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1260360"/>
            <a:ext cx="486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ポートは欠陥だら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20000" y="1800360"/>
            <a:ext cx="18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たままレポートを作成したので、学校名が違っていました。それに、「金閣寺」についての説明が間違って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C9F-F3FF-4A01-9F2D-4A64210566B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989-C342-43E0-9AB8-1E37D86B7DF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7B9-071F-4EAA-B766-B793FF3D6E3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1C7-E903-4DFB-BF23-D17E6C13F0E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61F-9FD3-4C3E-B8D1-6691B9892693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ウタ君とサヤカさんは、修学旅行の事前学習でインターネットの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ページから情報を得ようとし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インターネットで修学旅行の調べ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1C0-988A-4E3E-B6FB-B41D6604B24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ウタ君は、サヤカさんの話を聞いて、検索エンジンを使って「京都」について調べること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キーワードで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EFD-9302-4383-BC71-CF7BDC7440C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実際に検索エンジンを使って「京都」を調べてみましたが、「京都」のことがたくさんありすぎて困っ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んなに情報があるの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75F-60B3-47D7-AC0E-EDC3F82C5B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京都」だけでは情報が多すぎるので、もう一つの追加キーワード「金閣寺」を入れること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検索条件をふやしてみたらど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387-F2EB-42C6-A77D-7252C88702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キーワードを増やして検索することにしました。（「京都」「スペース」「金閣寺」で検索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キーワードを増やして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089-EA7C-4E98-8FB1-A98835BAC6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前より、検索結果は少なくなってきました。でも１万件以上も情報があると、どこから調べたらよいか困っ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検索結果は少なくなって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E4D-532D-42B9-9B55-5007CBF493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も、実際には自分がほしくない情報もたくさん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たく関係ない情報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1B6-1D97-4397-BF3E-2327D7C56E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なか得たい情報を見つけられないときは、検索条件（キーワード）を変えてみるのも大切だと教わったコウタ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検索条件を変えてみるのも大切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621-9BBA-41E8-9EF0-21CB6A6566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13:38Z</dcterms:modified>
  <cp:revision>1</cp:revision>
  <dc:subject/>
  <dc:title/>
</cp:coreProperties>
</file>