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D2B1-C131-44F0-8E9E-1AACEDFF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2E2-5B63-4521-B326-C873FF26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515-4F7E-45EB-AC69-0BC9E439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3CA-C7FE-4E45-9156-066BC1EE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1E8A-5672-48AF-AED9-03001D81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395-6589-4146-B383-EA854ECF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CFB0-ED8B-4DB6-8037-00E5B60B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FC20-BFE2-4B60-8096-015814D6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2E5-8409-41B7-A3EA-8AB61BF0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24C-C1C6-4997-9A15-FC6E15A9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265-9B36-417E-83DB-82D939B4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9AA-E238-4D62-9B1A-77134926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C968F-0193-47C6-9939-C75E5B907F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630072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9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輸入は慎重に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輸入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E49-2F88-4A90-9320-60ABF2D13E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輸入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3B8-2289-49C2-9B2A-14FE948A864A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輸入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本では売っていないような商品が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1260360"/>
            <a:ext cx="36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海外のオンラインショッ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0C49-8A65-4858-B1DB-0627BFB51D3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輸入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本物みたいなモデルガンを見つけ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6A47-D73A-437F-A9E7-8B32873FF73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輸入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支払い方法は問題あり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79640" y="1260360"/>
            <a:ext cx="36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海外のオンラインショッ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BE9C-E26B-4365-9627-9DCE560B9F0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輸入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んとか、買えそうです。早速、申し込み、代金も送金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79640" y="1301760"/>
            <a:ext cx="36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貯金箱をあけてみる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5D62-5BE5-4F79-B242-CE9FBF1F8ED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輸入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税関から書類が届き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79640" y="1260360"/>
            <a:ext cx="36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がて、日にちがた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48B4-A020-457B-AD65-06223C5F90C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輸入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輸入が禁止されている製品であり、没収するという通知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277-5A64-4DA6-966D-0EDE28E8F92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輸入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金を返して欲しいと思い連絡してみると。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8537-D8D9-4B7A-AC3E-6DE3F4CF605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輸入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金を返して欲しいと思い連絡してみると、商品は没収されており代金は戻りそうもあり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33F-0723-480D-B27B-7DEDE79476D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09:46Z</dcterms:modified>
  <cp:revision>1</cp:revision>
  <dc:subject/>
  <dc:title/>
</cp:coreProperties>
</file>