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D5C-D1F6-441F-BE0C-CFD01CC1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F49-AFA8-46F7-BF12-C664490C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012-33F7-44EC-BB42-8964D2AB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48C-2E43-45B4-BABF-17DCA7E8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258-0C2B-4720-9689-75C1C1D1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773-3E57-46D5-83F9-2190BBAF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2E3-CEAB-4C1F-A320-02780EA6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24D-E85C-414A-B455-C55B7548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46A-D7DC-494E-BA75-B44732EB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066-7F71-49EC-9C8C-68C45D49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D40-E461-4EB9-9FC7-2B83CF7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332-5745-4189-8E13-7B80D202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C151E-29CA-4F23-B6B3-0D1A9C2C0D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6119640"/>
            <a:ext cx="755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れらはジロウ君が送ったネズミ講のメールへの抗議の内容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DE2-C98B-46CB-B32E-DB0983D1FE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B41-1638-4FCA-95AA-DFCF10AFF8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6119640"/>
            <a:ext cx="755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受取ったメールの中には警察からのも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0C4-50E9-44E4-B0FD-47F4D962515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ジロウ君のメールが法律違反なので、警察に出頭して欲しいという内容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6A8-3319-4ACC-AB86-675D47ECFC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30A-45D6-4FD8-BADF-0BB04CC085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6F1-FDF3-4DB5-9B2F-14C09B78E3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A34-D271-4993-9266-CB5FB6592761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カシ君からジロウ君にメールが届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DF6-4D03-449B-8C7B-DBDB787E39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,000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払えばお金がたくさんもうかるというメール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53C-7E67-48ED-965E-EDD22B5EF4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6119640"/>
            <a:ext cx="7669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はタカシ君を含む４人に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00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ずつ振り込めという内容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A72-EBD1-47FB-B476-D18F14FA40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00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に相当する物としてレポートが届く仕組み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04B-E6D4-471F-B106-7AABD1B1E44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して、４人の中の最初の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名を削除して、最後に自分（ジロウ君）を追加してたくさんの人に送れという内容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F47-9F4B-4617-8F2D-28B46845D4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ジロウ君は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,000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の出費だけで自分がメールを送った人数分と受取った人は同じようにメールを送るのでたくさんの人からお金が振り込まれると思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B45-50D3-4271-AF37-A860F052592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っそくそれぞれの人に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00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ずつ振り込んだところ、全員からレポートが届きました。それで今度は名簿の最後を自分にして、たくさんの人にメールを送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216-C192-487B-9017-FFC6751195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をたくさん受取って驚くジロウ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08E-F991-4AFD-958F-BEB4C53D21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45:48Z</dcterms:modified>
  <cp:revision>1</cp:revision>
  <dc:subject/>
  <dc:title/>
</cp:coreProperties>
</file>