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44D-A6F3-4B0C-BDF5-1A6FDFCA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5E4-F5C8-4851-A1C5-1D1A80D4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5B9-4EB6-4B5C-A064-999BE505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B48-CEB9-4708-8C94-63D8EAA8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4E2-4886-4546-9865-8F17340C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A05-C3DB-4C04-8A5C-8485F85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F2C-71ED-401B-9DC7-F738B0B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635-E0A3-4E53-B75A-F4D5463A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318-3041-461E-8461-0E4D781E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CE7-43AB-4E09-96E3-B28452A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46A-B958-4593-8757-89F0953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14E-60B4-4DF8-A115-DFDBE53E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A59D-EDF4-4D29-AFC7-F882972228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　スワード）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8AF-A187-4FBD-A847-04D4B6230C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122-3841-49AD-B2C2-1EF9A9F1DC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3F9-E2D4-408C-8FA2-7D28789DA4BC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，トオル君の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パスワードをメモに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か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オル君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をみつけた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1C4-799D-4051-9A44-82B104FBAE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オル君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を使って電子メールが使えることが分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を試す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7B8-6BA4-4F6C-A852-758282C4AE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んどはダイスケ君本人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でメールチェック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E5E-9164-460E-8B43-5F33251B18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分に届いたので、これでいたずらしようと考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741-8B1A-4B29-BD56-CFE841E514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597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，トオル君になりすまして，うそのメールを発信し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たずらメールを発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235-6580-4B55-972C-136D22F655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軽いいたずらのつもりだったことが，大きな問題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級会で問題に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5B7-0C10-4B02-A851-AEA7DFB670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つかったいたず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D71-3E57-46A2-A7BD-46C4437F31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に注意されてダイスケ君は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反省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4C5-5F7A-4E0A-9921-0CD6F018B7F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54:27Z</dcterms:modified>
  <cp:revision>1</cp:revision>
  <dc:subject/>
  <dc:title/>
</cp:coreProperties>
</file>