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CC0-6017-4D63-91EB-33D8B4AA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492-E3C0-4DD6-B472-A6145E18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472-7977-4CEA-9E75-C926B953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E92-0238-4B56-8ADA-7470BC7F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BBB-2538-4B53-8156-D0F2A20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7E1-AB32-4819-8E32-FD50144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6C4-9FCF-4CE7-AE01-08A07ED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9E4-D71B-4E85-B4F4-2FEFEEA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F2F-4044-4119-9A69-20233109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72E-60EC-4CD7-8EE1-C494824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8DB-FE3C-43DB-9CA1-12F7042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C06-DA92-40BD-B649-987C45F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060BA-E661-4364-B7E3-8BF414630E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58D-BBED-4CDB-9B0B-D02F79A2CF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D4E-4A04-4F4A-8436-A392E42E27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E6F-5295-43D8-9985-7744DC769B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6C7-022B-4FDE-BE3B-BCE79041A3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DEF-A2AF-47C3-BF7D-B8730C86AD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9BC-5950-42D8-8E07-27E3BA1871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177-1AFC-4F61-B652-CA40CA14C0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160-4EA0-47B1-BD9A-7EFDF294E627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天文部のシン君たちが、金星観測のために望遠鏡を設置しています。どうやら、金星の定点観測をするようで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金星の定点観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2F1-82CB-4F69-939F-1A30AEBE1F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C7-3B51-49E4-95FD-7BC57318D5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撮影は毎日順調に進み、とった写真もずいぶんたまって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EE0-DC3B-4C88-A9C3-C0AB578739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みんなの共同作業で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を管理するというのは、ちょっと面倒です。しかも、毎日撮影するため、簡単に更新できなくてはなりません。さて、どうしたら良いでしょう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60360"/>
            <a:ext cx="39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Ｗｅｂページで成果を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1FF-DE95-4A77-837B-9F6042267D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119640"/>
            <a:ext cx="72007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たちは、良い方法を見つけたよ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よ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を利用する際に、気をつけなくてはならないと思うことを考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で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523-8B54-4558-A5D5-0F526975E3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なら、写真や文章を簡単な操作で更新できるので、まいにち観測結果を公開することが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毎日更新されるブロ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BD7-5A56-4187-966C-42381D9535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人からの反響は、活動のはげみになりま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反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2E9-75B6-4143-B016-39BA5B0221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には、いろいろな利用方法がありそうです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よう□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利用方法について、やってみたいことやできそうなことを考え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利用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8B9-CFA0-4608-B77F-F6A42BAF0A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