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450-6DBA-48E0-87FC-52A958E1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F18-158F-4263-8B1D-EE739A08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307-C0F1-4C1F-B30F-FFC5AA35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511-F481-492B-BA89-272614F2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424-64E6-4663-9E84-86411309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1E8-C467-4EDA-9B85-31F3C53C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386-6B60-4E83-9BCC-FD099A45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12FF-8924-4140-8F0E-5E291A7C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505-35D4-4A4B-946E-6EC95B40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576C-4EB9-4F98-BB1C-DE505030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C0F-C592-4111-A430-8DB999B0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008-E3EA-49A5-BD8E-72A5D7F1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1EDCF-F373-4C44-9EC5-61A96F83FE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648036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61A-FC88-456B-81CD-34E88D9653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DBF-EED1-44B1-BBDB-375353FFFE9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F79-4467-40A1-9A85-2D43B77A8E01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ズオ君はホームページを見ながら考え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A97-E143-44F8-BEC9-9D4E0C06463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気のある野球ファンのホームページを見て気づき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E6D-56A8-4208-B0FC-F26A867C0A5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優勝校を予想投票するホームページを作ることを思いつき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296-3BCA-452B-9982-52E55F3F50F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優勝校を一口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000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で投票し、当たれば投票口数に応じて配当金を払う仕組みのサイト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8F4-EA8B-4986-869B-04E45FF2A0C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C07-5154-4706-B1F8-9150A91710D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申込みのメールがたくさんあ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11B3-9698-4879-9955-50B60A3A38E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ころが、警察からのメールもあ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27A5-CD0B-4E2C-ADD7-BE6E777F567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ズオ君の行っている行為はとばく行為であり、法律で禁止されているので、警察に来てくださいというメール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423-B58C-4AD0-9CB7-2941588182E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5:02:09Z</dcterms:modified>
  <cp:revision>1</cp:revision>
  <dc:subject/>
  <dc:title/>
</cp:coreProperties>
</file>