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740-098C-40BF-B7EC-2E49CDCF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B6F-27BB-4ECB-932E-4DE446CB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16E-4A65-4CDB-8880-98851E95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397-225E-4F2E-8D7F-07931FCC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E17-5839-424F-A664-79F725B2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7DC-5581-49E0-9975-3BE63005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847-B320-433E-BA99-ACDF56B5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90F-715E-4C33-9C19-2761EB55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DA2-43E3-407F-A2AF-4387074E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8CC-018D-45F1-942C-DD21644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6A8-C3F1-404D-8221-E0FBA84E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94A-806F-4F86-A95A-6CAC671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0D3BE-D54A-4D16-8A8C-2E352425C1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012-3708-4EB8-8284-0584C5276B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670-B31D-43A5-81BA-3BCC2306F9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がキャンセル手数料を請求され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542-2ADA-4F93-A139-3DF9282089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ロウ君は納得でき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253-6558-4D16-9FE2-624F5EF93F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父さんに聞いて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4DF-2B94-46C7-ACE1-D26B89D0332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方的な契約解除はできないとの説明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F23-4DF4-4B9E-82AE-C359F529B3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手数料を払う場合があることも教えられ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CA0-6258-43F5-873E-BB14C1151F2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445-52F9-434B-88AA-7E9BF012CAA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859-40A1-4709-B756-6C9904DFB1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A23-67FB-4C58-A883-5FAC87340C6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オークションサイトで中古ＣＤを探すタロウ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7EB-BFBD-42A9-87A1-2867420E1B7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3CD-ADE2-4BCD-B84C-73222F9A486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A31-3BA4-4D9A-839B-AB62EE143392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好きなバンドのＣＤ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D39-A4A1-404F-9B03-9C0F67A74D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考えるタロウ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922-720E-42D5-B5B5-51BD57187A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申し込む気持ち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F6B-2949-4269-A445-6158F152A3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ずは最低価格で申し込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4CC-67CD-42B9-ACB8-289C882E68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が翌日、もっと安いＣＤ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812-4F92-484E-AE37-6F0EE17BCE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タロウ君は昨日の申し込みはキャンセルするつもりです。問題はない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29C-7B95-4099-A678-E0DA27C1E1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822-A9DE-4609-880A-E11F5B66888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19:34Z</dcterms:modified>
  <cp:revision>1</cp:revision>
  <dc:subject/>
  <dc:title/>
</cp:coreProperties>
</file>