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FBF-1FDA-462F-92DC-B16E9C9F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206-10BC-4FEC-B2CD-59290E0F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3DB-54AE-4A78-992D-44CF15E9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22D-1009-4535-B343-74CFB3D0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80E-D062-401D-A2B1-234BAADD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622-1532-4B86-8560-341A9F01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A9F-35FE-4AFF-A7C9-0B15D977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D54-7845-456F-B901-FBBA77C6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9D2-524D-444E-BDFD-7728CDEB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4C3-1BF0-49BD-A1D3-87B001CD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EA7-9C89-4D77-BED6-7F963D53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02E-CE86-4908-ABD2-FEC7920A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2F249-AD1D-4F55-8874-322840A375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94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BF2-C8ED-4855-8A01-C4EA1FC042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44D-98FF-4CE4-BAA4-C39E2E87B1A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01D-DF58-4E94-8E3A-F221F768B34E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ユミさんのところに、メールが届きました。誰からなのかな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96D-F09F-4359-B017-544B8A3AA1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よく知らない人から友だちのメールアドレスを教えて欲しいというメール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9B2-66C5-4C0A-AC1F-DE7A868BB9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アドレスを教えてしまうのでしょうか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59C-84DC-4786-A296-9CDD5CED83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らら！！。知らない人に、自分の友達のメールアドレスを教えてしまいました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ここで考えよう□□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この後、どんなことが起こるか考え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C47-1B77-4AC9-8DC8-B3B19647C8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友だちは変なメールや電話がかかってきて困ったことになっているようです。アユミさんも責任を感じて小さくなっ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37A-D24F-4604-B88F-4E053CB3D9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6CA-5FC1-46AA-B51A-EA7DD809882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FC1-B888-406A-B98A-F93A54814A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191-9B64-461E-A442-EC21AB2692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26:35Z</dcterms:modified>
  <cp:revision>1</cp:revision>
  <dc:subject/>
  <dc:title/>
</cp:coreProperties>
</file>