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940-BFE0-4691-9815-DC9143AC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D596-8679-4827-83B8-8100695B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22E9-B90A-4FCF-A2C6-A87C0D68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189-E2C2-4F22-994B-A288886A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455E-B4F2-4467-83BE-B1179CDF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893-7776-439B-9DC4-CC480BDE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9601-B690-4033-B031-8B3036EC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6569-4AB6-4E59-91AD-35978D8B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1B63-48C0-4A15-973C-DBDEBBA7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A47A-E574-4911-819E-A8AE0376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3D98-3A56-4011-A6D7-CAEAB46D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C5F-84AD-46D6-BACF-2451F785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EC2EF-9B75-4EC0-BAC9-27F81FA771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580000" cy="19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07E2-F054-4502-9E2A-F8D965F412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06B0-06C9-4858-BEE0-2105F59F29E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B65-0898-483C-9C0B-233444598523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ダイスケ君はプレゼントのホームページを見つけ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ホームページを見ている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E2C7-9289-4464-A563-A3D18D6B659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アンケートに入力すると景品が貰えるページ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19280" y="1260360"/>
            <a:ext cx="45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キャラクターカードプレゼン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3D7-E7C3-42C6-970A-A726C78B6D0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ダイスケ君は景品につられて、自分の住所や電話番号などを入力してしま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入力するダイスケ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FBBD-1788-453B-BECC-155DCDEB0D6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6119640"/>
            <a:ext cx="72007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みましょう□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アンケート画面で自分の名前や住所、電話番号など入力するのは問題ないでしょうか？　後で困ったことにはならないでしょう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困るとしたら、どんなことが考えられます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入力が終わ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D9F-F545-4088-B667-6550F4542CC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アンケートに答えたが、いつまで待ってもキャラクターカードが届き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1260360"/>
            <a:ext cx="558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キャラクターカードを楽しみに待つダイスケ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B4F2-B435-442A-AACE-3E69E6AC9E5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ゆうびん屋さんがたくさんのダイレクトメールを持って来ました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00D-B47A-4B3D-B3D9-C9D2010FA1A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6119640"/>
            <a:ext cx="72007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のように勧誘の電話や郵便が多くなることが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ダイスケ君の行動は、何が問題だったのでしょう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のようなことにならないようにするには、どのようなことに気をつければよいでしょう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5983-974D-43E3-BE15-DCFC2F4DA74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0AD-ED2C-4739-8B17-D7937090BA2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24:32Z</dcterms:modified>
  <cp:revision>1</cp:revision>
  <dc:subject/>
  <dc:title/>
</cp:coreProperties>
</file>