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CD89-5ABE-427C-B215-D6D240B28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B111-E090-4545-B14B-A9F948B4E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5211-0EEF-42C9-8275-9EAAAEEB8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1B0E-489B-4605-923E-0D7F1439E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ED88-9525-4322-9952-4767D6B66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3A67-D359-4B1D-BCD1-68D84D356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9DC4-E43F-4093-BEEE-66F5B9291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6322-12FB-4CB7-993E-F4BFE54F3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DA47-B34A-4E09-9C7E-D1ADE3AA9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9AD7-E9F0-4B69-9536-410625179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9D31-01B8-46C8-A86E-2B0FD0EC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12AA-B9FF-4A27-9A06-9722CF95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77AB18-2CDA-45F6-9B7B-4A432371258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9640" y="45252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19280" y="2700360"/>
            <a:ext cx="6300720" cy="14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0.</a:t>
            </a:r>
            <a:r>
              <a:rPr b="1" lang="zh-CN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発注ミスに注意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レゼンテーション資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9280" y="6983280"/>
            <a:ext cx="540072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著作権は独立行政法人情報処理推進機構（</a:t>
            </a: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IPA</a:t>
            </a: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及び経済産業省に帰属し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0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発注ミス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009D-CD36-451D-B1AD-DBFC5F11B57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0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発注ミス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9687-DABB-4EFF-A644-289259A1CCB5}" type="slidenum">
              <a:t>1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0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発注ミス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特価のフィルムをみつけたダイスケ君は，こうふん気味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1260360"/>
            <a:ext cx="450036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格安のフィルムをみつけたダイスケ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2613-2F30-4D27-AE98-3EEF925D699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0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発注ミス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79640" y="1260360"/>
            <a:ext cx="450036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注文数量の入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7297-C64A-4A41-8260-263B9FFE227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0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発注ミス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あまりに安いので，フィルムの数を</a:t>
            </a: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本に変更したつもりなのですが・・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E35B-BD7D-433B-90B0-294212753FA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0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発注ミス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こうふんしていたダイスケ君は，コンピュータの画面をよく見ずに注文してしまい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979640" y="1260360"/>
            <a:ext cx="450036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本のフィルムを注文するつもり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5B6E-D524-48AD-B2C1-173C37833BB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0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発注ミス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数日後、家に届いたフィルムを見たダイスケ君はびっく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79640" y="1260360"/>
            <a:ext cx="450036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とどいたフィルムは？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6008-2442-4DD5-98B9-2161EF13EFD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0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発注ミス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979640" y="1260360"/>
            <a:ext cx="450036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お母さんもびっく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98E3-7319-4655-A6C2-4A81D9116AB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0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発注ミス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本のフィルムを注文したはずなのに，</a:t>
            </a: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20</a:t>
            </a: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本のフィルムがとどいてい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9AAC-7F24-4D78-9306-FCCD72CEF08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6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0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発注ミス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B85F-57E3-437F-BFFB-33B6E6D2634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6-03-22T05:03:22Z</dcterms:modified>
  <cp:revision>1</cp:revision>
  <dc:subject/>
  <dc:title/>
</cp:coreProperties>
</file>