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6F8A-5BCE-4C7E-B045-E4EE3A4DD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0E6B-D890-4695-A9B0-18364740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C99A-5B13-405C-B551-5580CAAB0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2C0E-3967-4DB1-BF75-0308B9E9A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E821-67D5-4FE6-B1ED-E4FD14F5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D005-A09F-400A-BBE8-625834FD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053C-D690-47EA-B1E0-1B69434C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F433-9B4F-4BC7-899B-BB7E4915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0E5F-5185-4B6F-8C89-A2B0ED0D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59FB-3983-45CB-97EC-EE989043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7C1B-C3D7-4F29-AF8F-17CA0640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C81D-7149-45B2-9BD6-F590C4C1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ADECCC-314D-4A58-BB42-297BCA3C3FC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9640" y="45252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19280" y="2700360"/>
            <a:ext cx="594036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6.</a:t>
            </a: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チェーンメールはカット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レゼンテーション資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9280" y="6983280"/>
            <a:ext cx="54007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著作権は独立行政法人情報処理推進機構（</a:t>
            </a:r>
            <a:r>
              <a:rPr b="0" lang="en-GB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PA</a:t>
            </a:r>
            <a:r>
              <a:rPr b="0" lang="en-GB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及び経済産業省に帰属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6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チェーンメールはカッ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反省するユミさんで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B8E1-FE23-4391-9323-27D720EB6E5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6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チェーンメールはカッ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2269-4704-48E4-BE20-300787B7172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6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チェーンメールはカッ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8EFC-2561-4B38-85B8-BB75214DD7B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6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チェーンメールはカッ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7DEB-CA26-477A-A234-01EB5908358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6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チェーンメールはカッ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AA3B-9C57-4452-B90E-796FB3054D8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6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チェーンメールはカッ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CF45-36FD-4383-AD5F-3B369595D5A9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6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チェーンメールはカッ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9707-C7DE-4F34-91FA-126D0E28A6A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6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チェーンメールはカッ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ユミさんは学校から帰るとすぐにメールチェックしています。友達のリカさんからメールが届いてい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E748-7A3C-4FCE-83F3-A988A7C534A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6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チェーンメールはカッ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19280" y="6119640"/>
            <a:ext cx="720072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リカさんからのメールはコンピュータウイルスに注意するように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書かれたメールで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AFDC-5466-40FD-8F50-178E0F9E7BE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6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チェーンメールはカッ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リカさんが親切に教えてくれたメールには「他の人に知らせてあげてください。」と書かれていたこともあり、ユミさんも友達に教えてあげようと考え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6574-3432-4C22-85F6-E77430D3E1A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6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チェーンメールはカッ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84360" y="5940360"/>
            <a:ext cx="75247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さっそく、ユミさんは友達全員にメールを転送してあげ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□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こで考えてみましょう□□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このウイルスの情報は本当でしょうか？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「他の人に転送してください」と書かれているからといって、受け取った人がみんな転送したらどうなるでしょう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8E06-1691-48DF-B27F-F666886E10B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6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チェーンメールはカッ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次の日も同じようなメールがたくさん届き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A8EC-3D05-4494-8FF8-33073356C7B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6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チェーンメールはカッ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19280" y="6119640"/>
            <a:ext cx="720072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ユミさんはどうして何通も同じウイルスに関する情報が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届くのかわかりませ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B212-7E32-4CD7-AEF7-D25251CB0EB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6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チェーンメールはカッ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19280" y="6119640"/>
            <a:ext cx="720072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シン君からは「何通も同じメールが届き、しかも、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嘘の情報で迷惑だ」という抗議をうけ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53BE-AECE-4DD3-88A0-345333A6142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6-03-22T02:45:58Z</dcterms:modified>
  <cp:revision>2</cp:revision>
  <dc:subject/>
  <dc:title/>
</cp:coreProperties>
</file>