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C6D6-1E7E-410E-8ECF-6248A7D90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A6C8-6C43-4CDA-8362-5768F192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39BE-89BB-4656-83CB-22D929FAC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2037-7C24-4A8B-9201-9C649ED01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87C3-F582-460F-AEBD-FDF7819C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C005-F080-44D5-AA07-4F7B5B79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6452-CB0A-4F76-BE12-3D37D9C1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3D11-EAF9-4ABA-8178-0B485888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C148-E9BE-49AC-8841-69A66354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ECFD-C45F-4952-8370-8B9D516B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CB28-78B2-46A7-9095-43DABFB4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5926-9531-4A7B-B515-400ECE07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8F8B6-17CB-43B9-B86A-2DAC07757F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19280" y="2700360"/>
            <a:ext cx="540072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.</a:t>
            </a: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携帯電話のマナー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9280" y="6983280"/>
            <a:ext cx="54007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GB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en-GB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20720" y="539640"/>
            <a:ext cx="5219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携帯電話のマナ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60720" y="1260360"/>
            <a:ext cx="467964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車内マナーを守りましょ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1CE9-70A1-456B-B593-9727A2FEA83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20720" y="539640"/>
            <a:ext cx="5219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携帯電話のマナ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8984-3544-4BC5-8686-C75300018B6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20720" y="539640"/>
            <a:ext cx="5219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携帯電話のマナ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60720" y="1260360"/>
            <a:ext cx="521964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カメラつき携帯のマナーも守りましょ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3D00-DDAD-4994-B3A6-393D738B1DD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20720" y="539640"/>
            <a:ext cx="5219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携帯電話のマナ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9092-033D-446E-8503-37003CD8E90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20720" y="539640"/>
            <a:ext cx="5219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携帯電話のマナ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C669-5616-4E06-951E-530C395A5E2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20720" y="539640"/>
            <a:ext cx="5219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携帯電話のマナ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86080" y="1260360"/>
            <a:ext cx="391464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携帯メールの注意点は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8B01-FA0E-4928-9E2B-D0B6DC7F3F1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20720" y="539640"/>
            <a:ext cx="5219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携帯電話のマナ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E0AC-A039-4551-B7B4-C239218A693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0720" y="539640"/>
            <a:ext cx="5219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携帯電話のマナ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5FA7-17F6-41FA-92A4-4364CA9E1F9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20720" y="539640"/>
            <a:ext cx="5219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携帯電話のマナ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436840" y="167652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DEEB-7FE9-4979-8644-9C7D003C245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20720" y="539640"/>
            <a:ext cx="5219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携帯電話のマナ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436840" y="167652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4128-4C0A-42FE-AF06-4236452BB2E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20720" y="539640"/>
            <a:ext cx="5219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携帯電話のマナ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60720" y="1260360"/>
            <a:ext cx="467964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んな場所では電源を切りましょ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0FCA-F13A-4EA8-99F1-66462FA043C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20720" y="539640"/>
            <a:ext cx="5219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携帯電話のマナ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436840" y="167652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67A7-29F9-4FE4-B9F1-BE6930FAD32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20720" y="539640"/>
            <a:ext cx="5219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携帯電話のマナ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436840" y="167652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B7BE-A8EC-4291-81DF-CE6B176DEEB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20720" y="539640"/>
            <a:ext cx="5219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携帯電話のマナ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436840" y="167652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06A6-E3B7-43F9-8D97-5D6B360887F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20720" y="539640"/>
            <a:ext cx="5219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携帯電話のマナ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436840" y="167652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2031-4849-41EF-86B9-3856349232D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20720" y="539640"/>
            <a:ext cx="5219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携帯電話のマナ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436840" y="167652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-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DAA0-E481-4313-9395-43DB73E9B5AF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20720" y="539640"/>
            <a:ext cx="5219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携帯電話のマナ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6456-198D-472B-8D1E-1A9A897E36B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20720" y="539640"/>
            <a:ext cx="5219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携帯電話のマナ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1C43-2D07-4407-9EBA-0192B5D926C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20720" y="539640"/>
            <a:ext cx="5219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携帯電話のマナ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4F12-E65F-4106-8422-59AD12F9840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20720" y="539640"/>
            <a:ext cx="5219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携帯電話のマナ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60720" y="1260360"/>
            <a:ext cx="540072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転車にのって利用するのは危険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F4B8-4547-4B46-AD63-BEFE8DBE3EE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20720" y="539640"/>
            <a:ext cx="5219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携帯電話のマナ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60720" y="1260360"/>
            <a:ext cx="540072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メールチェックしながら歩くのは危険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CEE9-F32B-4440-96DE-E876176109B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20720" y="539640"/>
            <a:ext cx="5219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携帯電話のマナ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60720" y="1260360"/>
            <a:ext cx="467964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マナーモードにしましょ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F530-6764-4119-929E-F07C44D22A9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20720" y="539640"/>
            <a:ext cx="5219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携帯電話のマナ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17920" y="1879560"/>
            <a:ext cx="31734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マナーモード設定も大事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17920" y="1879560"/>
            <a:ext cx="31734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マナーモード設定も大事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6981-D983-4CAA-9F5D-4E536678231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03-22T04:16:04Z</dcterms:modified>
  <cp:revision>1</cp:revision>
  <dc:subject/>
  <dc:title/>
</cp:coreProperties>
</file>