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855-1448-47AC-BDC5-E759CAE6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4B9-D2E2-42D7-A827-195A344F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CA5-7B26-49BE-AAD3-22C35F5A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21E-9288-4516-A45C-494D5CAB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37D-C75B-4724-85B4-E57512D6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C9B-B611-4260-8D49-815ED93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585-B3F7-4307-8B17-50CDF455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846-D345-4684-93BC-3E934E38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7A8-35AE-43AE-82C4-D75277D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2DF-0C42-4F50-8E22-D866450D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A3E-5350-4F71-84ED-56B06D6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FAA-97F1-47AB-A7E5-F569968A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6B1D2-6C87-4E35-8E34-94AD8DFC8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63F-0270-4C30-AEC5-AA5123F4D9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E02-F462-48E3-95D0-8E4C780DAB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446-1287-4E74-B90A-148908B8D1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5BA-88DA-424B-9C44-0BF154A9B1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BBB-0111-4E8E-842C-B2EA784E6A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125-7198-4438-81C0-56F8DCCFA760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日、ケイコさんがインターネットにアクセスしていると、おもしろそうな占い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CAC-6520-46EF-9C0A-3BC2F6EDF06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ダウンロード、ご使用無料」という言葉にもひかれてさっそく、ダウンロードしてみ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3F5-2BFD-47EE-8A63-69C0A48CC7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297-9845-447A-A7CF-7B3FB1ADB9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ウンロードが始ま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830-A98A-43AC-9D25-34C05C776E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D92-BEB8-4F14-B4DC-6B6275917F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ウンロードが終わり、さっそく占いを試してみまし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もしろいので、どんどん夢中になってしまいました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63E-2BDA-4984-98FD-0D19D1EDD8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　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57B-21B1-4D7F-804E-C1C306B19F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次の月、多額の国際電話の請求書がきてしまい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229-4B56-48AC-A22A-2013A62FED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47:23Z</dcterms:modified>
  <cp:revision>1</cp:revision>
  <dc:subject/>
  <dc:title/>
</cp:coreProperties>
</file>